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2.png" ContentType="image/png"/>
  <Override PartName="/ppt/media/image35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8.wmf" ContentType="image/x-wmf"/>
  <Override PartName="/ppt/media/image33.jpeg" ContentType="image/jpeg"/>
  <Override PartName="/ppt/media/image5.wmf" ContentType="image/x-wmf"/>
  <Override PartName="/ppt/media/image38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049-CB05-48D8-A603-7EFCE8EE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E9F0-17E1-47F8-84D3-E2091E5E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D7F-0627-4A4F-B2AD-9E756519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487-11D0-4B6A-B533-842C16D1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73CC-A7DE-4B86-9D44-6F022983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A357-2EDF-4CA5-9F3C-F92C9222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A0B9-4FF0-400C-829E-20EDC245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1931-2D36-43DD-B156-6E6EA939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E835-65AC-4DAF-B82B-E14B4F0F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A175-400F-4C2D-A171-63D73E9B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E595-EBF9-4000-BDD5-9AE76647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E427-7DE0-48BA-A029-C3D9509A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E540-2462-473C-8935-08E9A463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0955-27F0-43EF-B95A-72799117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E18E-940C-4F4D-8C64-6C07DC53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4AAB-899F-4A95-AAD0-8B05DF1F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DB02-7ACF-44C8-8F0F-B089BB20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F42-6F36-4389-907F-8E2A33FE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7E5-553C-40C0-BEDF-B7C1B907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98F-768F-4854-B91C-A5D969E9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AB3-2156-4A68-93C6-3D3CC478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F74-484B-4331-A42B-3153EA2B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8B7-A025-48DE-9C3C-D3ADE05F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4C30-4D35-4D07-A29F-B075EB90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5697-81AE-4FA0-9B7C-443EF5D4E0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B420-FC94-4B91-8CC5-7DC51A7A78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dang Aplikasi E-Com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523880"/>
          <a:ext cx="8686800" cy="53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68680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luang &amp; Kendala E-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828800"/>
          <a:ext cx="914400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Commerce Teori-nya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fitas di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tualisasi Pengembangan Wilay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Custom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Busin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057400"/>
          <a:ext cx="91440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 (EDI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 Whom EDI Can Be Used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cost to move to E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base dibalik Web 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ntangan Selanjutnya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aborativ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ion L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 Teori-nya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al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suk ke Internet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rvey Potens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&amp; Profile Us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19360" y="2666520"/>
            <a:ext cx="46479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ffic Web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vey User Pro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079640" y="1994040"/>
          <a:ext cx="301464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994040"/>
                    <a:ext cx="301464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Traffic Web Indone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0-80% traffic datangnya dari / ke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 informasi Web yang agak banyak datangnya dar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com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edu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sg di Singap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ar traffic Web  harian mencapai 80-100Mby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Perdag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ga Bersa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tu Tingg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tepatan Waktu sampai ke Pas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Profile User Hasil Sebuah Stu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rakteritik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ference and Per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Sources &amp; Distribution 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du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842080" y="2454120"/>
          <a:ext cx="3089160" cy="430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080" y="2454120"/>
                    <a:ext cx="3089160" cy="43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mum Well Educated 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kar menemukan User Internet yang hanya berpendidikan SD :-)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 dominasi oleh P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umnya single atau tidak punya an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umnya Antara 25-35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ih Relatif Mu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co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Amerika Serik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65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Erop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42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97320" y="4648320"/>
          <a:ext cx="361656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7320" y="4648320"/>
                    <a:ext cx="3616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49400" y="4560840"/>
          <a:ext cx="517824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400" y="4560840"/>
                    <a:ext cx="517824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pe Perusahaan Yang Akan di Untungk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lam Waktu Dek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erusahaan Kec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&lt;100 Pegawa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6512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reativ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ustomizabil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nveni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760" y="2097000"/>
          <a:ext cx="3706560" cy="33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2097000"/>
                    <a:ext cx="370656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otal Customer Satisf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a competitive analysis and remember content is 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name of the game is the dom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n't waste your time, do a time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pond, respond, respo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o on the circu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Offensive di Lap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ada Indonesia Technolog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disional vs Elektroni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lit promosi &amp; akses pas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timpangan persaingan dag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onomi biaya tinggi &amp; birokra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edu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ar kurang kompeti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kses pasar mud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laian indepen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siasi &amp; penawaran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mudahan permintaan produk bar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ur informasi transpar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yanan interak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nada Indonesia TechNet (CITN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ower SMEs (Small Medium Enterpri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ion, Research, NGO, Gov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adian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-ctn@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jkt@ibm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TN - CTN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1486080"/>
          <a:ext cx="708660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86080"/>
                    <a:ext cx="708660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@isnet.itb.ac.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man, RCTI, Bank, Dept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90720" y="1165320"/>
          <a:ext cx="8153280" cy="61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65320"/>
                    <a:ext cx="815328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AN Agriculture W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riculture@apan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 on Agri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porting Techn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und Card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00-9600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+ Sound Card +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ome.pages.de/~flexnet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TT FlexNet via Ser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7" name="ptt_ser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53452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ycom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33520" y="1752480"/>
          <a:ext cx="8610480" cy="46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61048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-3240" y="-3240"/>
          <a:ext cx="9074160" cy="67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881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ADI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ADI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 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2514600"/>
          <a:ext cx="8839080" cy="27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8839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i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04920" y="1600200"/>
          <a:ext cx="883908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83908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CD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10 km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in Router + Ethernet conn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ydra.carleton.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(CDM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1774800"/>
          <a:ext cx="914400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4800"/>
                    <a:ext cx="91440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81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ational Tr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1504800"/>
          <a:ext cx="8076960" cy="5353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04800"/>
                    <a:ext cx="8076960" cy="5353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mateur Packet Satelli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FOTO-13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FOT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0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Call Wai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2" name="ipfax_white3" descr=""/>
          <p:cNvPicPr/>
          <p:nvPr/>
        </p:nvPicPr>
        <p:blipFill>
          <a:blip r:embed="rId1"/>
          <a:stretch/>
        </p:blipFill>
        <p:spPr>
          <a:xfrm>
            <a:off x="380880" y="1625760"/>
            <a:ext cx="84582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4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 Glob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1674720"/>
          <a:ext cx="73152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4720"/>
                    <a:ext cx="7315200" cy="5183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7e988b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deo Confer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6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ptualisasi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1758960" y="2063880"/>
            <a:ext cx="6921360" cy="3568680"/>
          </a:xfrm>
          <a:custGeom>
            <a:avLst/>
            <a:gdLst>
              <a:gd name="textAreaLeft" fmla="*/ 256320 w 6921360"/>
              <a:gd name="textAreaRight" fmla="*/ 6665040 w 6921360"/>
              <a:gd name="textAreaTop" fmla="*/ 132120 h 3568680"/>
              <a:gd name="textAreaBottom" fmla="*/ 2850120 h 3568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4425840" y="387360"/>
            <a:ext cx="4635720" cy="364500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135000 h 3645000"/>
              <a:gd name="textAreaBottom" fmla="*/ 2910960 h 3645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835280" y="6480"/>
            <a:ext cx="6769080" cy="25779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5400 h 2577960"/>
              <a:gd name="textAreaBottom" fmla="*/ 2058840 h 25779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892680" y="6480"/>
            <a:ext cx="5168880" cy="265428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98280 h 2654280"/>
              <a:gd name="textAreaBottom" fmla="*/ 2119680 h 26542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 flipH="1">
            <a:off x="81720" y="6480"/>
            <a:ext cx="6769080" cy="242568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ase Inovasi 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ation: penghematan bia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sion:peningkatan performa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: nilai tambah ba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2133720"/>
          <a:ext cx="7084800" cy="52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084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e Patte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Net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Empower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 Cre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Technology Supp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9T09:48:31Z</dcterms:created>
  <dc:creator>Onno W. Purbo</dc:creator>
  <dc:description/>
  <dc:language>en-US</dc:language>
  <cp:lastModifiedBy>Onno W. Purbo</cp:lastModifiedBy>
  <dcterms:modified xsi:type="dcterms:W3CDTF">1999-06-29T02:23:48Z</dcterms:modified>
  <cp:revision>24</cp:revision>
  <dc:subject/>
  <dc:title>No Slide Title</dc:title>
</cp:coreProperties>
</file>