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4BC50-1F49-4411-8552-44E7113B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D632-92B2-4420-8234-4BEDD359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2A790-BA11-4212-B450-6AF9198D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3DCF2-1EA3-4ACC-925C-92AF13E2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2AB9-A60A-40F0-83FC-54C17D56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22EF-F72F-4C29-889B-ECC6995D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EFB6-77F7-4833-B928-7F7A5B43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2871-8D8E-44F4-8732-3F599130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894C-3443-48CA-B100-1C3922C3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12CE-4C5B-4FB6-ABB0-9CCF9F86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6562-4ABF-4CD6-9924-549B1FA9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29468-BF3C-4C07-B93C-10593F25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BA3D-A3CC-41EE-A788-D6EC7C28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5B47-E1FC-4B06-A7E2-223E1C35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6D6B-AAB3-4A8B-AD71-D59F8EAE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1B84-6A7E-4E79-8C25-4856B57C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D571-C72F-4C89-BD41-38C099A8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7EE01-CDF3-43C9-9033-344C18BE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D4946-7E1D-4965-869B-2A77C487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8F236-BBB2-4AE4-983B-0A7A7507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A864-C2FC-49AA-844E-EA14630A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66E22-68BC-45BA-AC56-429A8D67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B0E19-0076-4C58-B2BD-9AD65FE7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A9CD-6A16-45EC-9360-2A54E186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6BF8-9A9F-46AB-A608-63270D6EAC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6061-6747-40C1-946D-29C1C9E04C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apertonet.com/index.htm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http://www.axxcelera.com/index.htm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Unlicensed Multipoint Operation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: Reliability, Interference and Economic V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62120" y="55627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ert A. Campb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campbell@nscg.b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s where infrastructure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side the DSL areas and access to copper or fiber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business centers that need connectivity ab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of the “underserved” area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ll, vertical services would increase the penetration into market (VoIP, VPN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to rooftops and/or towers at lower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wireless equipment doesn’t require high-density of population, but minimums needed to satisfy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Town USA” needs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argue it is needed here more because of a lack of access to metro market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of equipment can present coverage problems for UNII 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pite this, success stories exist in “one-stoplight” tow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CC report:  Broadband = &gt;200K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9.6 million high-speed subscribers as of June 30,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50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since the FCC released it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6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during the first half of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8 Million (of 9.6 Million) subscribers are residential or small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news for fixed wire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speed lines in service over satellite or fixed wireless technologies increased at 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stest 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3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uring the first half of 2001, to nearly 200,000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 equipment can and does provide more than adequate service and transport of advanc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trum is not that crowded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 is still small, penetration rates growing rapid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ntastic opportunities for those who plan and execut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time 99.999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5 minutes downtime each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ng in spite of weather, environmental or other characteristi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does it just simply 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1600200"/>
            <a:ext cx="4038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4572000" y="25909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99.999%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es roughly to 5 minutes 15 seconds of downtime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’s 6 SECOND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ve a single outage of 2 hours, you will need 100% uptime for the next 23 years to achieve 99.99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chievable? Mayb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Idea?  Absolu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:  This is an ideal goal that is rarely met, but striving to meet it provides great benef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ot of issues can be out of your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NII and the Environ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I band, outdoors, frequency range 5.25GHz-5.35GHz and 5.725GHz-5.825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6GHz water and other weather phenomenon are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FCC regulations limit an effective transmission range to approximately 7 miles, curvature of the earth is generally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ning is one of our biggest concerns along with improperly terminated cables (which can be affected by weat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om Line: The Environment can be man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F Interference or Electromagnetic Interference (EM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ge impact on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I Band – 200MHz of spectr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 2.4GHz – 83.5 MHz of spect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equipment available has sufficient channel plans to allow for multiple operators in the same RF space – the channe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ment vendors are beginning to build interference mitigation into their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know what you’re sending and have a good idea on what you’re to receive, then block any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02.11a – new kid on the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target:  Indoor Wireless LAN, could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indoor-only frequencies (5.15GHz – 5.25GHz) along with 5.25GHZ-5.35G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the network, survey the RF landscape, document you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l recourse for malicious interference, but no recourse for other inter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 to the equipment’s ability to reject interference as the landscape crow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7238880" y="838080"/>
            <a:ext cx="144792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oes it work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ly, YES!  You’re here aren’t you?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ping equipment with deployments and real world feedback have shown that equipment vendors are putting out quality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Back to ho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2743200"/>
            <a:ext cx="1295640" cy="4665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5"/>
          <a:stretch/>
        </p:blipFill>
        <p:spPr>
          <a:xfrm>
            <a:off x="4952880" y="4495680"/>
            <a:ext cx="1473480" cy="5270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9920" y="3581280"/>
            <a:ext cx="1904760" cy="3333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8"/>
          <a:stretch/>
        </p:blipFill>
        <p:spPr>
          <a:xfrm>
            <a:off x="7010280" y="4495680"/>
            <a:ext cx="186372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conomic 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able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ban:  Augmenting Fiber as it isn’t in every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: Where is the business?  Underserved?  Extending the Urban reach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:  Difficult due to ranges of equipment, but more cost effective in low density markets than anything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now what you’re getting in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ban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Fiber and copper-based carr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DSL, Cable Modem and low-cost point-to-point DS1/DS3 conn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cost of operations related to rooftops/tower leasing – permitt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ing is one ans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 of vertical services is key to maintaining value pro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00:59:03Z</dcterms:created>
  <dc:creator>Robert A. Campbell</dc:creator>
  <dc:description/>
  <dc:language>en-US</dc:language>
  <cp:lastModifiedBy>Robert A. Campbell</cp:lastModifiedBy>
  <dcterms:modified xsi:type="dcterms:W3CDTF">2002-02-10T17:30:39Z</dcterms:modified>
  <cp:revision>14</cp:revision>
  <dc:subject/>
  <dc:title>Unlicensed Multipoint Oper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