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E64-698C-4E89-AE62-7292FCD3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F4DF-9D78-470C-A36A-65826249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34D8-BC07-4020-9224-62BA1C44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532-804E-4EFE-91A5-D08D3C64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F7AD-1610-49EC-A4C7-AB463167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E8E9-1E9A-41DC-AEE5-595F748D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3FE8-6C21-4CCA-9AE0-58489507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D0D4-6C8C-4463-8BF9-5C6C5BD3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7FFB-E9F0-4C3E-ACA1-257249C0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F2FD-7454-46E1-B6BB-97402D95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5565-1699-46B8-A598-50DA91D5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D3DE-2CC2-4F60-8514-B31974EC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1EA3-F959-4370-89F6-82F7084C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135B-58FC-4A3C-B53F-A1D1311F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8F53-812F-47A4-A180-56C47608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2285-E20F-4483-AE32-47FBB739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4351-026B-4A65-967D-5AE84DDF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2717-5219-4E48-B071-21A48C02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67D5-7738-4A92-90B8-7B3C5CE5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B1D7-1F04-4581-9F5D-1C87BE8C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7D0-F0F6-40F4-ABE0-4982C9C1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B2E2-A9FE-47DC-AAE3-26327D8D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0D96-A2EC-4517-BCB2-8C146AA3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C13-C862-48B1-8E50-960C3666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D9AE-1CE0-417A-BDC0-B170E24A8F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8EB6-F622-40E7-A75B-7427A00DF6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irneasia.net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holar.google.com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holar.google.com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irneasia.net/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ing a knowledge base for telecom reform in East, South &amp; Southeast Asia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160" y="342864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han Samarajiva and Sujata Ga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lirneasia.ne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029200" y="5029200"/>
            <a:ext cx="32767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RNE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asi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’s mis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To improve the lives of the people of Asia by facilitating their use of  information and communication technologies; by catalyzing the reform of the laws, policies and regulations to enable those uses; by building Asia-based human capacity through research, training, consulting and advoca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to develop research capac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 fund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stering networks because of belief tha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twork &gt; sum of p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ticipatory building makes for greater sustainability and fit fo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ransaction costs must be kept in mi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bjective is sector performance, through improved capac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network building in and of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to develop research networ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existing research organizations as building blo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w transaction cos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3560" indent="-3675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rganizations may be inept/rapacio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sential to determine whether organization is of good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3560" indent="-3675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est way: productivity of its researcher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 from researc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to find the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pevine/snowba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ma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b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production in the age of the world wide web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a tree falls in the forest and no one hears it, does it make a sound?”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shop George Berkeley (1685-175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es a place in cyberspace exist if no one visits it?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her Dyson (1951-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research is done but the results are unavailable on the web, was it actually don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bjective of knowledge-mapping researc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ize the knowledge b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tured best through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cholar.google.c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net presence should be tempered by peer-review criter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Presence and Quality as driv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ied through university directories, Social Science Citation Index, and Scholar.goo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iversities in As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ist of universities in the directory of universities compiled by the International Association of Universities, a UNESCO organiz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search Universities in As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ist of 150 universities surveyed in the ‘Asia’s Best Universities 2000 Survey’ by 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Asiaweek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cial Science Citation Index; ISI Citation Database (SSCI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ocuments published between 2000-2005 containing the word telecom or its variation (telecom*) AND ‘asia’ in the title or abstract, and the name of one of the 22 ‘Asian’ countries in the  addr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cholar.google.co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rst 200 documents returned for a search with keywords “telecom * ‘country,” for each of the 22 countries in South, Southeast and East Asia. Initial search yielded 2000+ records. Documents relevant to telecom infrastructure reforms were handpicked from initial sample to yield 717 records. Of these, 105 contained at least one ‘Asia’-based autho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mitations and bia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ases in directories and SS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ta version of scholar.goog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glish language documents on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is the language of scienc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ine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b crawler may not catch policy relevant documents from non-academic cit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better than alternati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verage:  22 countri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AST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hina, Japan, Hong Kong SAR, Singapore, South Korea, Taiwan RO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TH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fghanistan, Bangladesh, Bhutan, India, Maldives, Nepal,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TH EAST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ambodia, Indonesia, Laos, Malaysia, Myanmar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earch universities in East, South, and Southeast As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133720"/>
            <a:ext cx="87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119 universities in al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International Assoc. of Universities direc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51 research universit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sia Wee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urvey,20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ives an estimate of the size of overall knowledge-generation 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leashing the power of ICTs in Asia: the need for refor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ledge as input to the reform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RNE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si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’s mis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facilitate knowledge networ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ledge mapping research on telecom reform expertise in As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51 research universities in region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79400" y="1752480"/>
          <a:ext cx="757548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9400" y="1752480"/>
                    <a:ext cx="75754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Nep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done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o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lay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anm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" y="0"/>
            <a:ext cx="92203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Research universities as knowledge base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50 universities; Six countries off the ‘map’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SCI as Knowledge bas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19 names; 12 countries off the ‘map’)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Nep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kistan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ri Lank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onesia, Laos, Malaysia, Myanmar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403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cholar.google as Knowledge bas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48 names; All but 5 countries back on the ‘map’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pal,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done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o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lay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anm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hilippines, Thailand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sence = Scholar.Google + SSC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ields a total of 377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except 29 names out of 367 captured by scholar.google; As scholar.google or other search engines improve, coverage should impro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5 count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ia = 94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uth Korea = 86 nam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SCI and Google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a’s Google presence &gt;&gt;&gt;&gt; SSCI presence; Korea’s insuffic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2120" y="1905120"/>
          <a:ext cx="7238880" cy="434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05120"/>
                    <a:ext cx="72388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ance by indexed journals and online citations as marks of qual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ty Assess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f the set of 377 author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19 have published in peer-reviewed international journals (SSC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5 are cited in scholar.goog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 are known through the ‘Grapevine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ble to evaluate 143 at this po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tations in Scholar.Google 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st citations are from developed countries and own countr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03440" y="1752480"/>
          <a:ext cx="7727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1752480"/>
                    <a:ext cx="7727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ited authors, Indi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0 of the 94 Indian authors have publications cited in scholar.googl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50% of these authors are from research universities  (3 IITs; 1 IIM; &amp; Jawaharlal Nehru U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universities (5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ustry (27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ment (2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(27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lineate the knowledge base:  universities and other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research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ncited auth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g time necessar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-profile publication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in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lusion:  Retain in ro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olarly relationships as shown by co-authorships and co-cit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</a:t>
            </a:r>
            <a:br>
              <a:rPr sz="38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377 ‘Asian’ authors; 614 co-authorships; Most co-authorships are within country; Secondly with developed countri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9040" y="1752480"/>
          <a:ext cx="7754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9040" y="1752480"/>
                    <a:ext cx="7754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304920"/>
            <a:ext cx="8305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 by country</a:t>
            </a:r>
            <a:br>
              <a:rPr sz="38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a-Asia co-authorships periphe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a roster of Asia-based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 to monitor scholar.google and add names to the ro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ain links with the graduate programs at the IITs and add new graduates to the ro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d out a solicitation annaually or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k their help with LIRN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the roster’s internet presence through LIRNeasia site, if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“internet presence” and “quality of work” at the individual level drive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153640" cy="480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, Ind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8483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-authorships, India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an authors with 2 or more collabo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nsalves, IIT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IT Madras (&amp; Tenet); Anna Univer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nghi, IITK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kha Jain, IIM Ahmedabad; 2 expats from a US Company &amp; UC, Berkeley, respective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ridha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at, GMU, USA; Virginia Tech, U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-authorships 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676520"/>
            <a:ext cx="8534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havior as expected from agents in knowled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ximity matters (Monge &amp; Contractor (2003); Bozeman (2002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uality drives collaborations, Wagner (2004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er impact factor through collaborations with developed countries (Gamage, ongoing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sian authors, ‘others in Asia’ are neither proximate nor likely to increase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higher quality work and better Internet presence co-authorships may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tations 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26 citations, not counting self-cit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03440" y="1752480"/>
          <a:ext cx="7727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1752480"/>
                    <a:ext cx="7727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itations by ‘Asian’ and other developing country auth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772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 citations too presence and quality are the drive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828800"/>
            <a:ext cx="8763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ximity matters (second highest citations through own country authors); but citations by ‘other’ countries could be further increased through better Internet pres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cholar.google presence with added SSCI credibility receives higher citations per publication than those with scholar.google pres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higher quality work and better internet presence intra-Asia citations may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y are we kicking own goal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governments/people agree tha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-readiness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eating service-sector employment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ing firms participating in global economy more efficient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sed lines are critically important to all of the above, pl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et . . . 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National Leased Line Tariffs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uth Asian Case Stu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2514600"/>
          <a:ext cx="4267080" cy="2819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14600"/>
                    <a:ext cx="42670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800600" y="2514600"/>
          <a:ext cx="4038480" cy="2819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2514600"/>
                    <a:ext cx="40384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09480" y="1905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nnual Tariffs (US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at about Indonesia? 2Mbps/2km &amp; 200km, compared with Ind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486400"/>
            <a:ext cx="8458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Data compiled from Lokanathan,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ea typeface="Arial"/>
                <a:hlinkClick r:id="rId2"/>
              </a:rPr>
              <a:t>www.lirneasia.n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, EU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report, interview with Indonesian ISP &amp; Network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286000"/>
          <a:ext cx="5867280" cy="2438280"/>
        </p:xfrm>
        <a:graphic>
          <a:graphicData uri="http://schemas.openxmlformats.org/drawingml/2006/table">
            <a:tbl>
              <a:tblPr/>
              <a:tblGrid>
                <a:gridCol w="2286000"/>
                <a:gridCol w="1447920"/>
                <a:gridCol w="213336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Mbps link/y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0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ones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US$18,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US$45,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3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7,6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U Benchmark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Denmark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4,8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9,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nleashing power of ICTs, especially in developing As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ed capacity to absorb technology; to innovate; to re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rriers to be rem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veloped Asia has, for the most part; but developing Asia does not .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ining can help, but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ucation more important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earch is foundation for all of the above in rapidly changing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tionale for research and continuous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lecom sector is one of the most dynami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chnologies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rkets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licy (and its implementation, regulation) must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current technologies that we could not think about 10 years (or even 5 years)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Fi and WiM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tionale for research and continuous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market phenomena that we could not think about 15 years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-paid mobi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w, more than 80% in most count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policies, regulatory requirements that no longer make se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gulating mobile prices in mos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.g., 64 packages from 4 operator in Sri Lan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ype approval of equipment in each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quiring frequency licenses for every frequency and frequency-emitting appar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8:38:33Z</dcterms:created>
  <dc:creator>Rohan Samarajiva</dc:creator>
  <dc:description/>
  <dc:language>en-US</dc:language>
  <cp:lastModifiedBy>TMD Tennakoon</cp:lastModifiedBy>
  <dcterms:modified xsi:type="dcterms:W3CDTF">2005-09-30T06:19:07Z</dcterms:modified>
  <cp:revision>117</cp:revision>
  <dc:subject/>
  <dc:title>S&amp;T Inpu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92191917</vt:r8>
  </property>
  <property fmtid="{D5CDD505-2E9C-101B-9397-08002B2CF9AE}" pid="3" name="_AuthorEmail">
    <vt:lpwstr>samarajiva@lirne.net</vt:lpwstr>
  </property>
  <property fmtid="{D5CDD505-2E9C-101B-9397-08002B2CF9AE}" pid="4" name="_AuthorEmailDisplayName">
    <vt:lpwstr>Rohan Samarajiva</vt:lpwstr>
  </property>
  <property fmtid="{D5CDD505-2E9C-101B-9397-08002B2CF9AE}" pid="5" name="_EmailSubject">
    <vt:lpwstr>Slides for your changes</vt:lpwstr>
  </property>
  <property fmtid="{D5CDD505-2E9C-101B-9397-08002B2CF9AE}" pid="6" name="_ReviewingToolsShownOnce">
    <vt:lpwstr/>
  </property>
</Properties>
</file>