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72960" y="380880"/>
              <a:ext cx="8759880" cy="6464520"/>
              <a:chOff x="372960" y="380880"/>
              <a:chExt cx="8759880" cy="6464520"/>
            </a:xfrm>
          </p:grpSpPr>
          <p:sp>
            <p:nvSpPr>
              <p:cNvPr id="3" name=""/>
              <p:cNvSpPr/>
              <p:nvPr/>
            </p:nvSpPr>
            <p:spPr>
              <a:xfrm>
                <a:off x="372960" y="380880"/>
                <a:ext cx="8759880" cy="6464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6738840" y="4191120"/>
                <a:ext cx="2032200" cy="2286000"/>
                <a:chOff x="6738840" y="4191120"/>
                <a:chExt cx="2032200" cy="228600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8636040" y="6324480"/>
                  <a:ext cx="135000" cy="1526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8364600" y="6324480"/>
                  <a:ext cx="136440" cy="15264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8094600" y="6324480"/>
                  <a:ext cx="135000" cy="1526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823160" y="63244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551720" y="6324480"/>
                  <a:ext cx="136440" cy="15264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281720" y="6324480"/>
                  <a:ext cx="135000" cy="15264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010280" y="63244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6738840" y="6324480"/>
                  <a:ext cx="136800" cy="15264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8636040" y="6019920"/>
                  <a:ext cx="135000" cy="15228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36040" y="5715000"/>
                  <a:ext cx="135000" cy="1522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636040" y="54100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636040" y="5105520"/>
                  <a:ext cx="135000" cy="15228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636040" y="4800600"/>
                  <a:ext cx="135000" cy="15228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636040" y="44956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636040" y="4191120"/>
                  <a:ext cx="135000" cy="15228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901f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510840" y="644832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615960" y="6400800"/>
            <a:ext cx="593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708000" y="644832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C6DD2339-FE66-48C3-A0A2-0333ED0C36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1419"/>
            </a:gs>
            <a:gs pos="100000">
              <a:srgbClr val="f76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fd00"/>
                </a:solidFill>
                <a:latin typeface="CG Times (W1)"/>
              </a:rPr>
              <a:t>Pendahulua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eung Mulyana &amp; Ichwan F. 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Netwrok Research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routing datagram ke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kukan Fragmentasi dan Defragment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kol terpenting, Internet Protocol (IP) dan Internet Control Message Protocol (IC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Access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hubungan ke 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entukan besar pak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versi IP ke alamat me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kapulasi Dat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16160" y="2292480"/>
            <a:ext cx="4711680" cy="3187440"/>
            <a:chOff x="2216160" y="2292480"/>
            <a:chExt cx="4711680" cy="3187440"/>
          </a:xfrm>
        </p:grpSpPr>
        <p:sp>
          <p:nvSpPr>
            <p:cNvPr id="114" name=""/>
            <p:cNvSpPr/>
            <p:nvPr/>
          </p:nvSpPr>
          <p:spPr>
            <a:xfrm>
              <a:off x="2216160" y="4807080"/>
              <a:ext cx="471168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54240" y="3968640"/>
              <a:ext cx="387360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16360" y="3130560"/>
              <a:ext cx="311148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8480" y="2292480"/>
              <a:ext cx="234936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16160" y="4807080"/>
              <a:ext cx="749160" cy="67284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54240" y="3968640"/>
              <a:ext cx="74952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16360" y="3130560"/>
              <a:ext cx="74916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 rot="16200000">
            <a:off x="1910160" y="3892680"/>
            <a:ext cx="1282680" cy="368280"/>
          </a:xfrm>
          <a:prstGeom prst="rightArrow">
            <a:avLst>
              <a:gd name="adj1" fmla="val 50000"/>
              <a:gd name="adj2" fmla="val 17416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11240" y="2749680"/>
            <a:ext cx="1282680" cy="5205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26800" y="280512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0880" y="4938840"/>
            <a:ext cx="236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20840" y="24242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3360" y="32018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47640" y="410040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ngiriman Data ke Tujuanny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0080" y="2340000"/>
            <a:ext cx="2159280" cy="2178000"/>
            <a:chOff x="730080" y="2340000"/>
            <a:chExt cx="2159280" cy="2178000"/>
          </a:xfrm>
        </p:grpSpPr>
        <p:grpSp>
          <p:nvGrpSpPr>
            <p:cNvPr id="130" name=""/>
            <p:cNvGrpSpPr/>
            <p:nvPr/>
          </p:nvGrpSpPr>
          <p:grpSpPr>
            <a:xfrm>
              <a:off x="730080" y="2340000"/>
              <a:ext cx="2159280" cy="1630440"/>
              <a:chOff x="730080" y="2340000"/>
              <a:chExt cx="2159280" cy="16304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30080" y="2340000"/>
                <a:ext cx="2159280" cy="1082520"/>
                <a:chOff x="730080" y="2340000"/>
                <a:chExt cx="2159280" cy="10825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30080" y="288756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0080" y="234000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73008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73008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492360" y="3435480"/>
            <a:ext cx="2159280" cy="1082520"/>
            <a:chOff x="3492360" y="3435480"/>
            <a:chExt cx="2159280" cy="1082520"/>
          </a:xfrm>
        </p:grpSpPr>
        <p:sp>
          <p:nvSpPr>
            <p:cNvPr id="137" name=""/>
            <p:cNvSpPr/>
            <p:nvPr/>
          </p:nvSpPr>
          <p:spPr>
            <a:xfrm>
              <a:off x="349236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92360" y="343548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292800" y="2340000"/>
            <a:ext cx="2158920" cy="2178000"/>
            <a:chOff x="6292800" y="2340000"/>
            <a:chExt cx="2158920" cy="2178000"/>
          </a:xfrm>
        </p:grpSpPr>
        <p:grpSp>
          <p:nvGrpSpPr>
            <p:cNvPr id="140" name=""/>
            <p:cNvGrpSpPr/>
            <p:nvPr/>
          </p:nvGrpSpPr>
          <p:grpSpPr>
            <a:xfrm>
              <a:off x="6292800" y="2340000"/>
              <a:ext cx="2158920" cy="1630440"/>
              <a:chOff x="6292800" y="2340000"/>
              <a:chExt cx="2158920" cy="16304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6292800" y="2340000"/>
                <a:ext cx="2158920" cy="1082520"/>
                <a:chOff x="6292800" y="2340000"/>
                <a:chExt cx="2158920" cy="10825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292800" y="288756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292800" y="234000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292800" y="343548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292800" y="3983040"/>
              <a:ext cx="215892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4812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5440" y="4724280"/>
            <a:ext cx="56131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932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9268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7836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5504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075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702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47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8712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79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77080" y="280512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ESIGN JARINGAN TCP?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mbentukan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mat merupakan alat agar “paket” dapat  mencapai tuju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lamatan harus u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susun dari 32 bit bilangan bi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apply ke Network Operation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 pertama IP Address-nya “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bit pertama IP Address-nya “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1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170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171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180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181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190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191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04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05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14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21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10800000">
            <a:off x="4578480" y="2521080"/>
            <a:ext cx="2882880" cy="1473120"/>
          </a:xfrm>
          <a:custGeom>
            <a:avLst/>
            <a:gdLst>
              <a:gd name="textAreaLeft" fmla="*/ 106560 w 2882880"/>
              <a:gd name="textAreaRight" fmla="*/ 2776320 w 2882880"/>
              <a:gd name="textAreaTop" fmla="*/ 54360 h 1473120"/>
              <a:gd name="textAreaBottom" fmla="*/ 1176480 h 147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1080" y="2905200"/>
            <a:ext cx="2261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104.0.19 da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2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Klas 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35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36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245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246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sp>
          <p:nvSpPr>
            <p:cNvPr id="255" name=""/>
            <p:cNvSpPr/>
            <p:nvPr/>
          </p:nvSpPr>
          <p:spPr>
            <a:xfrm>
              <a:off x="202572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210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848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356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2308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1872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rot="10800000">
            <a:off x="4577400" y="3511440"/>
            <a:ext cx="3035160" cy="1968480"/>
          </a:xfrm>
          <a:custGeom>
            <a:avLst/>
            <a:gdLst>
              <a:gd name="textAreaLeft" fmla="*/ 112320 w 3035160"/>
              <a:gd name="textAreaRight" fmla="*/ 2922840 w 3035160"/>
              <a:gd name="textAreaTop" fmla="*/ 72720 h 1968480"/>
              <a:gd name="textAreaBottom" fmla="*/ 1572120 h 19684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92200" y="4100400"/>
            <a:ext cx="226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2.1 d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28.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yekt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asa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esign Jaringan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singkat 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68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69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78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85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86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11640" y="2673360"/>
            <a:ext cx="3492720" cy="1663560"/>
          </a:xfrm>
          <a:custGeom>
            <a:avLst/>
            <a:gdLst>
              <a:gd name="textAreaLeft" fmla="*/ 129240 w 3492720"/>
              <a:gd name="textAreaRight" fmla="*/ 3363480 w 3492720"/>
              <a:gd name="textAreaTop" fmla="*/ 61560 h 1663560"/>
              <a:gd name="textAreaBottom" fmla="*/ 1328760 h 16635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73440" y="2805120"/>
            <a:ext cx="2857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 dar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92.178.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mbentukan Sub-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uah Network dapat dibagi menjadi beberapa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“menghemat”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sip : Subn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eser “network address” dengan mengubah m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tanggung Jawab terhadap pengiriman datagr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host membangun suatu “tabel routing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ggunakan router/gateway untuk menghubungi host yang “jau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05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07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13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838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656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41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49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82840" y="1606680"/>
            <a:ext cx="2578320" cy="204444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75600 h 2044440"/>
              <a:gd name="textAreaBottom" fmla="*/ 1632960 h 2044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111640"/>
            <a:ext cx="2958840" cy="166392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0960" y="4959360"/>
            <a:ext cx="2654280" cy="166356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81480" y="188280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67600" y="538812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08080" y="5388120"/>
            <a:ext cx="236988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120600" y="4311720"/>
            <a:ext cx="1587600" cy="139680"/>
          </a:xfrm>
          <a:prstGeom prst="rightArrow">
            <a:avLst>
              <a:gd name="adj1" fmla="val 50000"/>
              <a:gd name="adj2" fmla="val 56835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7740720" y="4159080"/>
            <a:ext cx="1054080" cy="216000"/>
          </a:xfrm>
          <a:prstGeom prst="rightArrow">
            <a:avLst>
              <a:gd name="adj1" fmla="val 50000"/>
              <a:gd name="adj2" fmla="val 244023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metakan Nama ke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Sederhana menggunakan Hos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untuk sistem yang bes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Review Perangkat Keras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2158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ologi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Jaringan dengan berbagai jenis N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Instalasi Jaringan Menggunakan Card 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952200" y="3588840"/>
            <a:ext cx="7219800" cy="15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Twisted P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ber-Op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A IMPLEMENTASI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23920" y="1924200"/>
            <a:ext cx="79502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721480" y="2187720"/>
            <a:ext cx="301608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82000" y="2895480"/>
            <a:ext cx="48960" cy="335160"/>
          </a:xfrm>
          <a:custGeom>
            <a:avLst/>
            <a:gdLst/>
            <a:ahLst/>
            <a:rect l="l" t="t" r="r" b="b"/>
            <a:pathLst>
              <a:path w="31" h="211">
                <a:moveTo>
                  <a:pt x="4" y="0"/>
                </a:moveTo>
                <a:lnTo>
                  <a:pt x="17" y="36"/>
                </a:lnTo>
                <a:lnTo>
                  <a:pt x="26" y="56"/>
                </a:lnTo>
                <a:lnTo>
                  <a:pt x="30" y="77"/>
                </a:lnTo>
                <a:lnTo>
                  <a:pt x="30" y="92"/>
                </a:lnTo>
                <a:lnTo>
                  <a:pt x="30" y="108"/>
                </a:lnTo>
                <a:lnTo>
                  <a:pt x="30" y="128"/>
                </a:lnTo>
                <a:lnTo>
                  <a:pt x="30" y="149"/>
                </a:lnTo>
                <a:lnTo>
                  <a:pt x="30" y="164"/>
                </a:lnTo>
                <a:lnTo>
                  <a:pt x="26" y="179"/>
                </a:lnTo>
                <a:lnTo>
                  <a:pt x="17" y="195"/>
                </a:lnTo>
                <a:lnTo>
                  <a:pt x="0" y="210"/>
                </a:lnTo>
                <a:lnTo>
                  <a:pt x="4" y="0"/>
                </a:lnTo>
              </a:path>
            </a:pathLst>
          </a:custGeom>
          <a:solidFill>
            <a:srgbClr val="006b6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abel U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sang Kabel di tw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mampuan transmisi s/d 10 Mb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ggunakan konektor RJ-11 atau RJ-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7157880" y="2714760"/>
            <a:ext cx="1282680" cy="339480"/>
            <a:chOff x="7157880" y="2714760"/>
            <a:chExt cx="1282680" cy="339480"/>
          </a:xfrm>
        </p:grpSpPr>
        <p:sp>
          <p:nvSpPr>
            <p:cNvPr id="392" name=""/>
            <p:cNvSpPr/>
            <p:nvPr/>
          </p:nvSpPr>
          <p:spPr>
            <a:xfrm>
              <a:off x="7157880" y="2933640"/>
              <a:ext cx="1013040" cy="120600"/>
            </a:xfrm>
            <a:custGeom>
              <a:avLst/>
              <a:gdLst/>
              <a:ahLst/>
              <a:rect l="l" t="t" r="r" b="b"/>
              <a:pathLst>
                <a:path w="638" h="76">
                  <a:moveTo>
                    <a:pt x="0" y="40"/>
                  </a:moveTo>
                  <a:lnTo>
                    <a:pt x="133" y="26"/>
                  </a:lnTo>
                  <a:lnTo>
                    <a:pt x="288" y="59"/>
                  </a:lnTo>
                  <a:lnTo>
                    <a:pt x="448" y="0"/>
                  </a:lnTo>
                  <a:lnTo>
                    <a:pt x="637" y="5"/>
                  </a:lnTo>
                  <a:lnTo>
                    <a:pt x="637" y="30"/>
                  </a:lnTo>
                  <a:lnTo>
                    <a:pt x="458" y="19"/>
                  </a:lnTo>
                  <a:lnTo>
                    <a:pt x="297" y="75"/>
                  </a:lnTo>
                  <a:lnTo>
                    <a:pt x="121" y="42"/>
                  </a:lnTo>
                  <a:lnTo>
                    <a:pt x="6" y="61"/>
                  </a:lnTo>
                  <a:lnTo>
                    <a:pt x="0" y="4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2000" y="2847960"/>
              <a:ext cx="958680" cy="206280"/>
            </a:xfrm>
            <a:custGeom>
              <a:avLst/>
              <a:gdLst/>
              <a:ahLst/>
              <a:rect l="l" t="t" r="r" b="b"/>
              <a:pathLst>
                <a:path w="604" h="130">
                  <a:moveTo>
                    <a:pt x="0" y="66"/>
                  </a:moveTo>
                  <a:lnTo>
                    <a:pt x="0" y="89"/>
                  </a:lnTo>
                  <a:lnTo>
                    <a:pt x="173" y="129"/>
                  </a:lnTo>
                  <a:lnTo>
                    <a:pt x="337" y="84"/>
                  </a:lnTo>
                  <a:lnTo>
                    <a:pt x="470" y="96"/>
                  </a:lnTo>
                  <a:lnTo>
                    <a:pt x="603" y="12"/>
                  </a:lnTo>
                  <a:lnTo>
                    <a:pt x="572" y="0"/>
                  </a:lnTo>
                  <a:lnTo>
                    <a:pt x="448" y="84"/>
                  </a:lnTo>
                  <a:lnTo>
                    <a:pt x="303" y="68"/>
                  </a:lnTo>
                  <a:lnTo>
                    <a:pt x="155" y="115"/>
                  </a:lnTo>
                  <a:lnTo>
                    <a:pt x="0" y="66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72280" y="2978280"/>
              <a:ext cx="158760" cy="28440"/>
            </a:xfrm>
            <a:custGeom>
              <a:avLst/>
              <a:gdLst/>
              <a:ahLst/>
              <a:rect l="l" t="t" r="r" b="b"/>
              <a:pathLst>
                <a:path w="100" h="18">
                  <a:moveTo>
                    <a:pt x="0" y="15"/>
                  </a:moveTo>
                  <a:lnTo>
                    <a:pt x="87" y="0"/>
                  </a:lnTo>
                  <a:lnTo>
                    <a:pt x="99" y="17"/>
                  </a:lnTo>
                  <a:lnTo>
                    <a:pt x="0" y="15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93200" y="2959200"/>
              <a:ext cx="158400" cy="42840"/>
            </a:xfrm>
            <a:custGeom>
              <a:avLst/>
              <a:gdLst/>
              <a:ahLst/>
              <a:rect l="l" t="t" r="r" b="b"/>
              <a:pathLst>
                <a:path w="100" h="27">
                  <a:moveTo>
                    <a:pt x="0" y="26"/>
                  </a:moveTo>
                  <a:lnTo>
                    <a:pt x="87" y="0"/>
                  </a:lnTo>
                  <a:lnTo>
                    <a:pt x="99" y="14"/>
                  </a:lnTo>
                  <a:lnTo>
                    <a:pt x="0" y="26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24840" y="2714760"/>
              <a:ext cx="173160" cy="13968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0" y="87"/>
                  </a:moveTo>
                  <a:lnTo>
                    <a:pt x="108" y="7"/>
                  </a:lnTo>
                  <a:lnTo>
                    <a:pt x="93" y="0"/>
                  </a:lnTo>
                  <a:lnTo>
                    <a:pt x="0" y="8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74160" y="2955960"/>
              <a:ext cx="266400" cy="12600"/>
            </a:xfrm>
            <a:custGeom>
              <a:avLst/>
              <a:gdLst/>
              <a:ahLst/>
              <a:rect l="l" t="t" r="r" b="b"/>
              <a:pathLst>
                <a:path w="168" h="8">
                  <a:moveTo>
                    <a:pt x="0" y="0"/>
                  </a:moveTo>
                  <a:lnTo>
                    <a:pt x="164" y="0"/>
                  </a:lnTo>
                  <a:lnTo>
                    <a:pt x="167" y="7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157880" y="3036960"/>
            <a:ext cx="1159200" cy="311040"/>
            <a:chOff x="7157880" y="3036960"/>
            <a:chExt cx="1159200" cy="311040"/>
          </a:xfrm>
        </p:grpSpPr>
        <p:sp>
          <p:nvSpPr>
            <p:cNvPr id="399" name=""/>
            <p:cNvSpPr/>
            <p:nvPr/>
          </p:nvSpPr>
          <p:spPr>
            <a:xfrm>
              <a:off x="7157880" y="3036960"/>
              <a:ext cx="914400" cy="129960"/>
            </a:xfrm>
            <a:custGeom>
              <a:avLst/>
              <a:gdLst/>
              <a:ahLst/>
              <a:rect l="l" t="t" r="r" b="b"/>
              <a:pathLst>
                <a:path w="576" h="82">
                  <a:moveTo>
                    <a:pt x="0" y="38"/>
                  </a:moveTo>
                  <a:lnTo>
                    <a:pt x="120" y="53"/>
                  </a:lnTo>
                  <a:lnTo>
                    <a:pt x="260" y="18"/>
                  </a:lnTo>
                  <a:lnTo>
                    <a:pt x="405" y="81"/>
                  </a:lnTo>
                  <a:lnTo>
                    <a:pt x="575" y="76"/>
                  </a:lnTo>
                  <a:lnTo>
                    <a:pt x="575" y="48"/>
                  </a:lnTo>
                  <a:lnTo>
                    <a:pt x="413" y="61"/>
                  </a:lnTo>
                  <a:lnTo>
                    <a:pt x="268" y="0"/>
                  </a:lnTo>
                  <a:lnTo>
                    <a:pt x="109" y="35"/>
                  </a:lnTo>
                  <a:lnTo>
                    <a:pt x="6" y="15"/>
                  </a:lnTo>
                  <a:lnTo>
                    <a:pt x="0" y="3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89920" y="3070080"/>
              <a:ext cx="885600" cy="138240"/>
            </a:xfrm>
            <a:custGeom>
              <a:avLst/>
              <a:gdLst/>
              <a:ahLst/>
              <a:rect l="l" t="t" r="r" b="b"/>
              <a:pathLst>
                <a:path w="558" h="87">
                  <a:moveTo>
                    <a:pt x="0" y="42"/>
                  </a:moveTo>
                  <a:lnTo>
                    <a:pt x="0" y="27"/>
                  </a:lnTo>
                  <a:lnTo>
                    <a:pt x="160" y="0"/>
                  </a:lnTo>
                  <a:lnTo>
                    <a:pt x="311" y="30"/>
                  </a:lnTo>
                  <a:lnTo>
                    <a:pt x="434" y="22"/>
                  </a:lnTo>
                  <a:lnTo>
                    <a:pt x="557" y="78"/>
                  </a:lnTo>
                  <a:lnTo>
                    <a:pt x="528" y="86"/>
                  </a:lnTo>
                  <a:lnTo>
                    <a:pt x="414" y="30"/>
                  </a:lnTo>
                  <a:lnTo>
                    <a:pt x="280" y="41"/>
                  </a:lnTo>
                  <a:lnTo>
                    <a:pt x="143" y="9"/>
                  </a:lnTo>
                  <a:lnTo>
                    <a:pt x="0" y="42"/>
                  </a:lnTo>
                </a:path>
              </a:pathLst>
            </a:custGeom>
            <a:solidFill>
              <a:srgbClr val="063de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70840" y="3090960"/>
              <a:ext cx="144360" cy="27000"/>
            </a:xfrm>
            <a:custGeom>
              <a:avLst/>
              <a:gdLst/>
              <a:ahLst/>
              <a:rect l="l" t="t" r="r" b="b"/>
              <a:pathLst>
                <a:path w="91" h="17">
                  <a:moveTo>
                    <a:pt x="0" y="2"/>
                  </a:moveTo>
                  <a:lnTo>
                    <a:pt x="79" y="16"/>
                  </a:lnTo>
                  <a:lnTo>
                    <a:pt x="90" y="0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073320"/>
              <a:ext cx="164880" cy="907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0"/>
                  </a:moveTo>
                  <a:lnTo>
                    <a:pt x="90" y="56"/>
                  </a:lnTo>
                  <a:lnTo>
                    <a:pt x="103" y="25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31240" y="3197160"/>
              <a:ext cx="15696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0" y="0"/>
                  </a:moveTo>
                  <a:lnTo>
                    <a:pt x="98" y="86"/>
                  </a:lnTo>
                  <a:lnTo>
                    <a:pt x="84" y="94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75520" y="3130560"/>
              <a:ext cx="241560" cy="12600"/>
            </a:xfrm>
            <a:custGeom>
              <a:avLst/>
              <a:gdLst/>
              <a:ahLst/>
              <a:rect l="l" t="t" r="r" b="b"/>
              <a:pathLst>
                <a:path w="152" h="8">
                  <a:moveTo>
                    <a:pt x="0" y="7"/>
                  </a:moveTo>
                  <a:lnTo>
                    <a:pt x="148" y="7"/>
                  </a:lnTo>
                  <a:lnTo>
                    <a:pt x="151" y="0"/>
                  </a:lnTo>
                  <a:lnTo>
                    <a:pt x="0" y="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134040" y="2886120"/>
            <a:ext cx="1054080" cy="349200"/>
          </a:xfrm>
          <a:custGeom>
            <a:avLst/>
            <a:gdLst/>
            <a:ahLst/>
            <a:rect l="l" t="t" r="r" b="b"/>
            <a:pathLst>
              <a:path w="664" h="220">
                <a:moveTo>
                  <a:pt x="0" y="0"/>
                </a:moveTo>
                <a:lnTo>
                  <a:pt x="0" y="16"/>
                </a:lnTo>
                <a:lnTo>
                  <a:pt x="0" y="33"/>
                </a:lnTo>
                <a:lnTo>
                  <a:pt x="17" y="49"/>
                </a:lnTo>
                <a:lnTo>
                  <a:pt x="35" y="61"/>
                </a:lnTo>
                <a:lnTo>
                  <a:pt x="46" y="77"/>
                </a:lnTo>
                <a:lnTo>
                  <a:pt x="64" y="93"/>
                </a:lnTo>
                <a:lnTo>
                  <a:pt x="69" y="110"/>
                </a:lnTo>
                <a:lnTo>
                  <a:pt x="75" y="126"/>
                </a:lnTo>
                <a:lnTo>
                  <a:pt x="6" y="219"/>
                </a:lnTo>
                <a:lnTo>
                  <a:pt x="657" y="219"/>
                </a:lnTo>
                <a:lnTo>
                  <a:pt x="652" y="61"/>
                </a:lnTo>
                <a:lnTo>
                  <a:pt x="652" y="33"/>
                </a:lnTo>
                <a:lnTo>
                  <a:pt x="66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92040" y="2235240"/>
            <a:ext cx="1269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U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0840" y="4211640"/>
            <a:ext cx="301644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1560" y="4302000"/>
            <a:ext cx="259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onektor RJ-11 / RJ-4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967360" y="4962600"/>
            <a:ext cx="1020960" cy="725400"/>
            <a:chOff x="5967360" y="4962600"/>
            <a:chExt cx="1020960" cy="725400"/>
          </a:xfrm>
        </p:grpSpPr>
        <p:grpSp>
          <p:nvGrpSpPr>
            <p:cNvPr id="410" name=""/>
            <p:cNvGrpSpPr/>
            <p:nvPr/>
          </p:nvGrpSpPr>
          <p:grpSpPr>
            <a:xfrm>
              <a:off x="5967360" y="5462640"/>
              <a:ext cx="803160" cy="146160"/>
              <a:chOff x="5967360" y="5462640"/>
              <a:chExt cx="803160" cy="14616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5967360" y="5462640"/>
                <a:ext cx="803160" cy="146160"/>
                <a:chOff x="5967360" y="5462640"/>
                <a:chExt cx="803160" cy="146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5967360" y="5497560"/>
                  <a:ext cx="800280" cy="111240"/>
                </a:xfrm>
                <a:custGeom>
                  <a:avLst/>
                  <a:gdLst/>
                  <a:ahLst/>
                  <a:rect l="l" t="t" r="r" b="b"/>
                  <a:pathLst>
                    <a:path w="504" h="70">
                      <a:moveTo>
                        <a:pt x="0" y="39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9"/>
                      </a:lnTo>
                      <a:lnTo>
                        <a:pt x="0" y="39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970600" y="5462640"/>
                  <a:ext cx="799920" cy="109440"/>
                </a:xfrm>
                <a:custGeom>
                  <a:avLst/>
                  <a:gdLst/>
                  <a:ahLst/>
                  <a:rect l="l" t="t" r="r" b="b"/>
                  <a:pathLst>
                    <a:path w="504" h="69">
                      <a:moveTo>
                        <a:pt x="0" y="38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8"/>
                      </a:lnTo>
                      <a:lnTo>
                        <a:pt x="0" y="38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978520" y="5521320"/>
                  <a:ext cx="638280" cy="87480"/>
                </a:xfrm>
                <a:custGeom>
                  <a:avLst/>
                  <a:gdLst/>
                  <a:ahLst/>
                  <a:rect l="l" t="t" r="r" b="b"/>
                  <a:pathLst>
                    <a:path w="402" h="55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401" y="54"/>
                      </a:lnTo>
                      <a:lnTo>
                        <a:pt x="401" y="3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6615000" y="5492880"/>
                <a:ext cx="147600" cy="110880"/>
              </a:xfrm>
              <a:custGeom>
                <a:avLst/>
                <a:gdLst/>
                <a:ahLst/>
                <a:rect l="l" t="t" r="r" b="b"/>
                <a:pathLst>
                  <a:path w="93" h="70">
                    <a:moveTo>
                      <a:pt x="92" y="0"/>
                    </a:moveTo>
                    <a:lnTo>
                      <a:pt x="92" y="23"/>
                    </a:lnTo>
                    <a:lnTo>
                      <a:pt x="0" y="69"/>
                    </a:lnTo>
                    <a:lnTo>
                      <a:pt x="0" y="52"/>
                    </a:lnTo>
                    <a:lnTo>
                      <a:pt x="92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116760" y="4962600"/>
              <a:ext cx="871560" cy="725400"/>
              <a:chOff x="6116760" y="4962600"/>
              <a:chExt cx="871560" cy="725400"/>
            </a:xfrm>
          </p:grpSpPr>
          <p:sp>
            <p:nvSpPr>
              <p:cNvPr id="417" name=""/>
              <p:cNvSpPr/>
              <p:nvPr/>
            </p:nvSpPr>
            <p:spPr>
              <a:xfrm>
                <a:off x="6116760" y="5262480"/>
                <a:ext cx="803160" cy="417600"/>
              </a:xfrm>
              <a:custGeom>
                <a:avLst/>
                <a:gdLst/>
                <a:ahLst/>
                <a:rect l="l" t="t" r="r" b="b"/>
                <a:pathLst>
                  <a:path w="506" h="263">
                    <a:moveTo>
                      <a:pt x="0" y="132"/>
                    </a:moveTo>
                    <a:lnTo>
                      <a:pt x="261" y="0"/>
                    </a:lnTo>
                    <a:lnTo>
                      <a:pt x="505" y="104"/>
                    </a:lnTo>
                    <a:lnTo>
                      <a:pt x="244" y="262"/>
                    </a:lnTo>
                    <a:lnTo>
                      <a:pt x="0" y="13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22880" y="4962600"/>
                <a:ext cx="865440" cy="455400"/>
              </a:xfrm>
              <a:custGeom>
                <a:avLst/>
                <a:gdLst/>
                <a:ahLst/>
                <a:rect l="l" t="t" r="r" b="b"/>
                <a:pathLst>
                  <a:path w="545" h="287">
                    <a:moveTo>
                      <a:pt x="0" y="130"/>
                    </a:moveTo>
                    <a:lnTo>
                      <a:pt x="269" y="0"/>
                    </a:lnTo>
                    <a:lnTo>
                      <a:pt x="544" y="151"/>
                    </a:lnTo>
                    <a:lnTo>
                      <a:pt x="294" y="286"/>
                    </a:lnTo>
                    <a:lnTo>
                      <a:pt x="0" y="130"/>
                    </a:lnTo>
                  </a:path>
                </a:pathLst>
              </a:custGeom>
              <a:gradFill rotWithShape="0">
                <a:gsLst>
                  <a:gs pos="0">
                    <a:srgbClr val="00554d"/>
                  </a:gs>
                  <a:gs pos="100000">
                    <a:srgbClr val="006b61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16760" y="5168880"/>
                <a:ext cx="466560" cy="519120"/>
              </a:xfrm>
              <a:custGeom>
                <a:avLst/>
                <a:gdLst/>
                <a:ahLst/>
                <a:rect l="l" t="t" r="r" b="b"/>
                <a:pathLst>
                  <a:path w="294" h="327">
                    <a:moveTo>
                      <a:pt x="0" y="0"/>
                    </a:moveTo>
                    <a:lnTo>
                      <a:pt x="0" y="197"/>
                    </a:lnTo>
                    <a:lnTo>
                      <a:pt x="236" y="326"/>
                    </a:lnTo>
                    <a:lnTo>
                      <a:pt x="236" y="235"/>
                    </a:lnTo>
                    <a:lnTo>
                      <a:pt x="293" y="266"/>
                    </a:lnTo>
                    <a:lnTo>
                      <a:pt x="293" y="15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f56"/>
                  </a:gs>
                </a:gsLst>
                <a:lin ang="81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61120" y="5013360"/>
                <a:ext cx="662040" cy="374760"/>
              </a:xfrm>
              <a:custGeom>
                <a:avLst/>
                <a:gdLst/>
                <a:ahLst/>
                <a:rect l="l" t="t" r="r" b="b"/>
                <a:pathLst>
                  <a:path w="417" h="236">
                    <a:moveTo>
                      <a:pt x="0" y="89"/>
                    </a:moveTo>
                    <a:lnTo>
                      <a:pt x="241" y="235"/>
                    </a:lnTo>
                    <a:lnTo>
                      <a:pt x="416" y="142"/>
                    </a:lnTo>
                    <a:lnTo>
                      <a:pt x="175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581880" y="5207040"/>
                <a:ext cx="399960" cy="385560"/>
              </a:xfrm>
              <a:custGeom>
                <a:avLst/>
                <a:gdLst/>
                <a:ahLst/>
                <a:rect l="l" t="t" r="r" b="b"/>
                <a:pathLst>
                  <a:path w="252" h="243">
                    <a:moveTo>
                      <a:pt x="0" y="242"/>
                    </a:moveTo>
                    <a:lnTo>
                      <a:pt x="251" y="97"/>
                    </a:lnTo>
                    <a:lnTo>
                      <a:pt x="251" y="0"/>
                    </a:lnTo>
                    <a:lnTo>
                      <a:pt x="0" y="134"/>
                    </a:lnTo>
                    <a:lnTo>
                      <a:pt x="0" y="24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40560" y="5253120"/>
                <a:ext cx="279360" cy="299880"/>
              </a:xfrm>
              <a:custGeom>
                <a:avLst/>
                <a:gdLst/>
                <a:ahLst/>
                <a:rect l="l" t="t" r="r" b="b"/>
                <a:pathLst>
                  <a:path w="176" h="189">
                    <a:moveTo>
                      <a:pt x="0" y="88"/>
                    </a:moveTo>
                    <a:lnTo>
                      <a:pt x="0" y="188"/>
                    </a:lnTo>
                    <a:lnTo>
                      <a:pt x="175" y="88"/>
                    </a:lnTo>
                    <a:lnTo>
                      <a:pt x="175" y="0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18240" y="5108400"/>
                <a:ext cx="271440" cy="309600"/>
              </a:xfrm>
              <a:custGeom>
                <a:avLst/>
                <a:gdLst/>
                <a:ahLst/>
                <a:rect l="l" t="t" r="r" b="b"/>
                <a:pathLst>
                  <a:path w="171" h="195">
                    <a:moveTo>
                      <a:pt x="4" y="0"/>
                    </a:moveTo>
                    <a:lnTo>
                      <a:pt x="170" y="93"/>
                    </a:lnTo>
                    <a:lnTo>
                      <a:pt x="166" y="186"/>
                    </a:lnTo>
                    <a:lnTo>
                      <a:pt x="148" y="194"/>
                    </a:lnTo>
                    <a:lnTo>
                      <a:pt x="148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568920" y="5141880"/>
                <a:ext cx="273240" cy="308160"/>
              </a:xfrm>
              <a:custGeom>
                <a:avLst/>
                <a:gdLst/>
                <a:ahLst/>
                <a:rect l="l" t="t" r="r" b="b"/>
                <a:pathLst>
                  <a:path w="172" h="194">
                    <a:moveTo>
                      <a:pt x="4" y="0"/>
                    </a:moveTo>
                    <a:lnTo>
                      <a:pt x="171" y="92"/>
                    </a:lnTo>
                    <a:lnTo>
                      <a:pt x="167" y="185"/>
                    </a:lnTo>
                    <a:lnTo>
                      <a:pt x="149" y="193"/>
                    </a:lnTo>
                    <a:lnTo>
                      <a:pt x="149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512040" y="5168880"/>
                <a:ext cx="276120" cy="308160"/>
              </a:xfrm>
              <a:custGeom>
                <a:avLst/>
                <a:gdLst/>
                <a:ahLst/>
                <a:rect l="l" t="t" r="r" b="b"/>
                <a:pathLst>
                  <a:path w="174" h="194">
                    <a:moveTo>
                      <a:pt x="4" y="0"/>
                    </a:moveTo>
                    <a:lnTo>
                      <a:pt x="173" y="92"/>
                    </a:lnTo>
                    <a:lnTo>
                      <a:pt x="169" y="185"/>
                    </a:lnTo>
                    <a:lnTo>
                      <a:pt x="151" y="193"/>
                    </a:lnTo>
                    <a:lnTo>
                      <a:pt x="151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8040" y="5200560"/>
                <a:ext cx="274680" cy="308160"/>
              </a:xfrm>
              <a:custGeom>
                <a:avLst/>
                <a:gdLst/>
                <a:ahLst/>
                <a:rect l="l" t="t" r="r" b="b"/>
                <a:pathLst>
                  <a:path w="173" h="194">
                    <a:moveTo>
                      <a:pt x="4" y="0"/>
                    </a:moveTo>
                    <a:lnTo>
                      <a:pt x="172" y="92"/>
                    </a:lnTo>
                    <a:lnTo>
                      <a:pt x="168" y="185"/>
                    </a:lnTo>
                    <a:lnTo>
                      <a:pt x="150" y="193"/>
                    </a:lnTo>
                    <a:lnTo>
                      <a:pt x="150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7396200" y="5452920"/>
            <a:ext cx="803160" cy="146160"/>
            <a:chOff x="7396200" y="5452920"/>
            <a:chExt cx="803160" cy="146160"/>
          </a:xfrm>
        </p:grpSpPr>
        <p:grpSp>
          <p:nvGrpSpPr>
            <p:cNvPr id="428" name=""/>
            <p:cNvGrpSpPr/>
            <p:nvPr/>
          </p:nvGrpSpPr>
          <p:grpSpPr>
            <a:xfrm>
              <a:off x="7396200" y="5452920"/>
              <a:ext cx="803160" cy="146160"/>
              <a:chOff x="7396200" y="5452920"/>
              <a:chExt cx="803160" cy="146160"/>
            </a:xfrm>
          </p:grpSpPr>
          <p:sp>
            <p:nvSpPr>
              <p:cNvPr id="429" name=""/>
              <p:cNvSpPr/>
              <p:nvPr/>
            </p:nvSpPr>
            <p:spPr>
              <a:xfrm>
                <a:off x="7396200" y="5487840"/>
                <a:ext cx="799920" cy="111240"/>
              </a:xfrm>
              <a:custGeom>
                <a:avLst/>
                <a:gdLst/>
                <a:ahLst/>
                <a:rect l="l" t="t" r="r" b="b"/>
                <a:pathLst>
                  <a:path w="504" h="70">
                    <a:moveTo>
                      <a:pt x="0" y="39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9"/>
                    </a:lnTo>
                    <a:lnTo>
                      <a:pt x="0" y="39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99440" y="5452920"/>
                <a:ext cx="799920" cy="109800"/>
              </a:xfrm>
              <a:custGeom>
                <a:avLst/>
                <a:gdLst/>
                <a:ahLst/>
                <a:rect l="l" t="t" r="r" b="b"/>
                <a:pathLst>
                  <a:path w="504" h="69">
                    <a:moveTo>
                      <a:pt x="0" y="38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8"/>
                    </a:lnTo>
                    <a:lnTo>
                      <a:pt x="0" y="38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07360" y="5511960"/>
                <a:ext cx="637920" cy="87120"/>
              </a:xfrm>
              <a:custGeom>
                <a:avLst/>
                <a:gdLst/>
                <a:ahLst/>
                <a:rect l="l" t="t" r="r" b="b"/>
                <a:pathLst>
                  <a:path w="402" h="55">
                    <a:moveTo>
                      <a:pt x="0" y="0"/>
                    </a:moveTo>
                    <a:lnTo>
                      <a:pt x="0" y="26"/>
                    </a:lnTo>
                    <a:lnTo>
                      <a:pt x="401" y="54"/>
                    </a:lnTo>
                    <a:lnTo>
                      <a:pt x="401" y="3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8043840" y="5483160"/>
              <a:ext cx="147600" cy="111240"/>
            </a:xfrm>
            <a:custGeom>
              <a:avLst/>
              <a:gdLst/>
              <a:ahLst/>
              <a:rect l="l" t="t" r="r" b="b"/>
              <a:pathLst>
                <a:path w="93" h="70">
                  <a:moveTo>
                    <a:pt x="92" y="0"/>
                  </a:moveTo>
                  <a:lnTo>
                    <a:pt x="92" y="23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92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54d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545240" y="4952880"/>
            <a:ext cx="871560" cy="725760"/>
            <a:chOff x="7545240" y="4952880"/>
            <a:chExt cx="871560" cy="725760"/>
          </a:xfrm>
        </p:grpSpPr>
        <p:sp>
          <p:nvSpPr>
            <p:cNvPr id="434" name=""/>
            <p:cNvSpPr/>
            <p:nvPr/>
          </p:nvSpPr>
          <p:spPr>
            <a:xfrm>
              <a:off x="7545240" y="5253120"/>
              <a:ext cx="803520" cy="417600"/>
            </a:xfrm>
            <a:custGeom>
              <a:avLst/>
              <a:gdLst/>
              <a:ahLst/>
              <a:rect l="l" t="t" r="r" b="b"/>
              <a:pathLst>
                <a:path w="506" h="263">
                  <a:moveTo>
                    <a:pt x="0" y="132"/>
                  </a:moveTo>
                  <a:lnTo>
                    <a:pt x="261" y="0"/>
                  </a:lnTo>
                  <a:lnTo>
                    <a:pt x="505" y="104"/>
                  </a:lnTo>
                  <a:lnTo>
                    <a:pt x="244" y="262"/>
                  </a:lnTo>
                  <a:lnTo>
                    <a:pt x="0" y="13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51720" y="4952880"/>
              <a:ext cx="865080" cy="455760"/>
            </a:xfrm>
            <a:custGeom>
              <a:avLst/>
              <a:gdLst/>
              <a:ahLst/>
              <a:rect l="l" t="t" r="r" b="b"/>
              <a:pathLst>
                <a:path w="545" h="287">
                  <a:moveTo>
                    <a:pt x="0" y="130"/>
                  </a:moveTo>
                  <a:lnTo>
                    <a:pt x="269" y="0"/>
                  </a:lnTo>
                  <a:lnTo>
                    <a:pt x="544" y="151"/>
                  </a:lnTo>
                  <a:lnTo>
                    <a:pt x="294" y="286"/>
                  </a:lnTo>
                  <a:lnTo>
                    <a:pt x="0" y="130"/>
                  </a:lnTo>
                </a:path>
              </a:pathLst>
            </a:custGeom>
            <a:gradFill rotWithShape="0">
              <a:gsLst>
                <a:gs pos="0">
                  <a:srgbClr val="00554d"/>
                </a:gs>
                <a:gs pos="100000">
                  <a:srgbClr val="006b61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45240" y="5159520"/>
              <a:ext cx="466920" cy="519120"/>
            </a:xfrm>
            <a:custGeom>
              <a:avLst/>
              <a:gdLst/>
              <a:ahLst/>
              <a:rect l="l" t="t" r="r" b="b"/>
              <a:pathLst>
                <a:path w="294" h="327">
                  <a:moveTo>
                    <a:pt x="0" y="0"/>
                  </a:moveTo>
                  <a:lnTo>
                    <a:pt x="0" y="197"/>
                  </a:lnTo>
                  <a:lnTo>
                    <a:pt x="236" y="326"/>
                  </a:lnTo>
                  <a:lnTo>
                    <a:pt x="236" y="235"/>
                  </a:lnTo>
                  <a:lnTo>
                    <a:pt x="293" y="266"/>
                  </a:lnTo>
                  <a:lnTo>
                    <a:pt x="293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f56"/>
                </a:gs>
              </a:gsLst>
              <a:lin ang="81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89960" y="5003640"/>
              <a:ext cx="662040" cy="374760"/>
            </a:xfrm>
            <a:custGeom>
              <a:avLst/>
              <a:gdLst/>
              <a:ahLst/>
              <a:rect l="l" t="t" r="r" b="b"/>
              <a:pathLst>
                <a:path w="417" h="236">
                  <a:moveTo>
                    <a:pt x="0" y="89"/>
                  </a:moveTo>
                  <a:lnTo>
                    <a:pt x="241" y="235"/>
                  </a:lnTo>
                  <a:lnTo>
                    <a:pt x="416" y="142"/>
                  </a:lnTo>
                  <a:lnTo>
                    <a:pt x="175" y="0"/>
                  </a:lnTo>
                  <a:lnTo>
                    <a:pt x="0" y="89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10360" y="5197320"/>
              <a:ext cx="400320" cy="385920"/>
            </a:xfrm>
            <a:custGeom>
              <a:avLst/>
              <a:gdLst/>
              <a:ahLst/>
              <a:rect l="l" t="t" r="r" b="b"/>
              <a:pathLst>
                <a:path w="252" h="243">
                  <a:moveTo>
                    <a:pt x="0" y="242"/>
                  </a:moveTo>
                  <a:lnTo>
                    <a:pt x="251" y="97"/>
                  </a:lnTo>
                  <a:lnTo>
                    <a:pt x="251" y="0"/>
                  </a:lnTo>
                  <a:lnTo>
                    <a:pt x="0" y="134"/>
                  </a:lnTo>
                  <a:lnTo>
                    <a:pt x="0" y="24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69400" y="5243400"/>
              <a:ext cx="279360" cy="300240"/>
            </a:xfrm>
            <a:custGeom>
              <a:avLst/>
              <a:gdLst/>
              <a:ahLst/>
              <a:rect l="l" t="t" r="r" b="b"/>
              <a:pathLst>
                <a:path w="176" h="189">
                  <a:moveTo>
                    <a:pt x="0" y="88"/>
                  </a:moveTo>
                  <a:lnTo>
                    <a:pt x="0" y="188"/>
                  </a:lnTo>
                  <a:lnTo>
                    <a:pt x="175" y="88"/>
                  </a:lnTo>
                  <a:lnTo>
                    <a:pt x="175" y="0"/>
                  </a:lnTo>
                  <a:lnTo>
                    <a:pt x="0" y="88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97760" y="5132520"/>
              <a:ext cx="273240" cy="30780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4" y="0"/>
                  </a:moveTo>
                  <a:lnTo>
                    <a:pt x="171" y="92"/>
                  </a:lnTo>
                  <a:lnTo>
                    <a:pt x="167" y="185"/>
                  </a:lnTo>
                  <a:lnTo>
                    <a:pt x="149" y="193"/>
                  </a:lnTo>
                  <a:lnTo>
                    <a:pt x="149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24680" y="5181480"/>
              <a:ext cx="274680" cy="308160"/>
            </a:xfrm>
            <a:custGeom>
              <a:avLst/>
              <a:gdLst/>
              <a:ahLst/>
              <a:rect l="l" t="t" r="r" b="b"/>
              <a:pathLst>
                <a:path w="173" h="194">
                  <a:moveTo>
                    <a:pt x="4" y="0"/>
                  </a:moveTo>
                  <a:lnTo>
                    <a:pt x="172" y="92"/>
                  </a:lnTo>
                  <a:lnTo>
                    <a:pt x="168" y="185"/>
                  </a:lnTo>
                  <a:lnTo>
                    <a:pt x="150" y="193"/>
                  </a:lnTo>
                  <a:lnTo>
                    <a:pt x="150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1590840"/>
            <a:ext cx="4891320" cy="36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dwidth leb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b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ck coax (10base5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G-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n coax (10base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RG-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70560" y="2725560"/>
            <a:ext cx="3340080" cy="26449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1a1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83280" y="3828960"/>
            <a:ext cx="1487520" cy="696960"/>
          </a:xfrm>
          <a:custGeom>
            <a:avLst/>
            <a:gdLst/>
            <a:ahLst/>
            <a:rect l="l" t="t" r="r" b="b"/>
            <a:pathLst>
              <a:path w="937" h="439">
                <a:moveTo>
                  <a:pt x="0" y="0"/>
                </a:moveTo>
                <a:lnTo>
                  <a:pt x="866" y="0"/>
                </a:lnTo>
                <a:lnTo>
                  <a:pt x="879" y="30"/>
                </a:lnTo>
                <a:lnTo>
                  <a:pt x="879" y="48"/>
                </a:lnTo>
                <a:lnTo>
                  <a:pt x="873" y="66"/>
                </a:lnTo>
                <a:lnTo>
                  <a:pt x="860" y="84"/>
                </a:lnTo>
                <a:lnTo>
                  <a:pt x="835" y="96"/>
                </a:lnTo>
                <a:lnTo>
                  <a:pt x="822" y="114"/>
                </a:lnTo>
                <a:lnTo>
                  <a:pt x="810" y="150"/>
                </a:lnTo>
                <a:lnTo>
                  <a:pt x="797" y="174"/>
                </a:lnTo>
                <a:lnTo>
                  <a:pt x="797" y="198"/>
                </a:lnTo>
                <a:lnTo>
                  <a:pt x="803" y="216"/>
                </a:lnTo>
                <a:lnTo>
                  <a:pt x="828" y="228"/>
                </a:lnTo>
                <a:lnTo>
                  <a:pt x="847" y="234"/>
                </a:lnTo>
                <a:lnTo>
                  <a:pt x="904" y="252"/>
                </a:lnTo>
                <a:lnTo>
                  <a:pt x="923" y="276"/>
                </a:lnTo>
                <a:lnTo>
                  <a:pt x="936" y="300"/>
                </a:lnTo>
                <a:lnTo>
                  <a:pt x="936" y="318"/>
                </a:lnTo>
                <a:lnTo>
                  <a:pt x="936" y="336"/>
                </a:lnTo>
                <a:lnTo>
                  <a:pt x="936" y="354"/>
                </a:lnTo>
                <a:lnTo>
                  <a:pt x="930" y="372"/>
                </a:lnTo>
                <a:lnTo>
                  <a:pt x="904" y="384"/>
                </a:lnTo>
                <a:lnTo>
                  <a:pt x="885" y="402"/>
                </a:lnTo>
                <a:lnTo>
                  <a:pt x="866" y="408"/>
                </a:lnTo>
                <a:lnTo>
                  <a:pt x="847" y="438"/>
                </a:lnTo>
                <a:lnTo>
                  <a:pt x="6" y="43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a1a1a1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a1a1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69080" y="3844800"/>
            <a:ext cx="407880" cy="67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32440" y="3943440"/>
            <a:ext cx="250920" cy="504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81800" y="3943440"/>
            <a:ext cx="47160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83160" y="3956040"/>
            <a:ext cx="176400" cy="479520"/>
          </a:xfrm>
          <a:prstGeom prst="ellipse">
            <a:avLst/>
          </a:prstGeom>
          <a:solidFill>
            <a:srgbClr val="a1a1a1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11960" y="4130640"/>
            <a:ext cx="103320" cy="120600"/>
          </a:xfrm>
          <a:prstGeom prst="ellipse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4140360"/>
            <a:ext cx="436320" cy="1126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56200" y="4149720"/>
            <a:ext cx="79560" cy="93600"/>
          </a:xfrm>
          <a:prstGeom prst="ellipse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26360" y="4138560"/>
            <a:ext cx="55440" cy="1144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10320" y="4191120"/>
            <a:ext cx="434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80080" y="4400640"/>
            <a:ext cx="435240" cy="0"/>
          </a:xfrm>
          <a:prstGeom prst="line">
            <a:avLst/>
          </a:prstGeom>
          <a:ln w="76320">
            <a:solidFill>
              <a:srgbClr val="ad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82080" y="2730600"/>
            <a:ext cx="176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Koaks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1920" y="3343320"/>
            <a:ext cx="114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58760" y="3390840"/>
            <a:ext cx="1306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79920" y="467676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20960" y="4943520"/>
            <a:ext cx="141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05520" y="3616200"/>
            <a:ext cx="45864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94480" y="3568680"/>
            <a:ext cx="11160" cy="24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35680" y="4279680"/>
            <a:ext cx="117360" cy="717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57840" y="4460400"/>
            <a:ext cx="7920" cy="28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ASAR TCP/IP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746080"/>
            <a:ext cx="7772400" cy="287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ber Op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23920" y="2441520"/>
            <a:ext cx="7238880" cy="34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h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dwidth le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pir tidak ada resistansi dan lo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bisa di-tap di teng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terganggu oleh cuaca dan pa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alah satu kabel utama di masa de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360" y="3052800"/>
            <a:ext cx="7181640" cy="20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asi mudah dilaku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ar host saliang berhubungan menggunakan ra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90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OLOGI FISI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7240" y="3524400"/>
            <a:ext cx="7162920" cy="24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Bus atau Dais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71640" y="1905120"/>
            <a:ext cx="812160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09800" y="2306160"/>
            <a:ext cx="7238880" cy="30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u kabel yang kedua ujungnya ditermin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t terhubung sepanjang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ing Prevalent dan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35000" y="2514600"/>
            <a:ext cx="66168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1436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386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6248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104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34280" y="2540160"/>
            <a:ext cx="0" cy="276840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4560" y="2425680"/>
            <a:ext cx="158760" cy="21600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83480" y="2444760"/>
            <a:ext cx="158760" cy="19692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8240" y="207324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02760" y="209232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92240" y="495468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631880" y="4992840"/>
            <a:ext cx="741600" cy="757080"/>
            <a:chOff x="1631880" y="4992840"/>
            <a:chExt cx="741600" cy="757080"/>
          </a:xfrm>
        </p:grpSpPr>
        <p:sp>
          <p:nvSpPr>
            <p:cNvPr id="487" name=""/>
            <p:cNvSpPr/>
            <p:nvPr/>
          </p:nvSpPr>
          <p:spPr>
            <a:xfrm>
              <a:off x="1631880" y="4992840"/>
              <a:ext cx="741600" cy="5601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89120" y="5033880"/>
              <a:ext cx="641160" cy="44316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1676160" y="574992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24040" y="551196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119240" y="514836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71520" y="516744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5600" y="39751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17920" y="33400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3360" y="33814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660760" y="40813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08280" y="38480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57560" y="40147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57560" y="41068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96040" y="3975120"/>
            <a:ext cx="77940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6560" y="3340080"/>
            <a:ext cx="74448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75240" y="3381480"/>
            <a:ext cx="64296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462280" y="408132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08720" y="3848040"/>
            <a:ext cx="5544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72040" y="4014720"/>
            <a:ext cx="558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72040" y="4106880"/>
            <a:ext cx="558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62240" y="5535720"/>
            <a:ext cx="73980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81320" y="4892760"/>
            <a:ext cx="747720" cy="563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37120" y="4968720"/>
            <a:ext cx="631800" cy="4384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123800" y="5635800"/>
            <a:ext cx="2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68800" y="5421240"/>
            <a:ext cx="5220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11600" y="55738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11600" y="56595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953400" y="5133960"/>
            <a:ext cx="915840" cy="860400"/>
            <a:chOff x="6953400" y="5133960"/>
            <a:chExt cx="915840" cy="860400"/>
          </a:xfrm>
        </p:grpSpPr>
        <p:sp>
          <p:nvSpPr>
            <p:cNvPr id="515" name=""/>
            <p:cNvSpPr/>
            <p:nvPr/>
          </p:nvSpPr>
          <p:spPr>
            <a:xfrm>
              <a:off x="6953400" y="56959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29360" y="51339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04240" y="52038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59520" y="59436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527688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05280" y="58150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5736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67000" y="566244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56520" y="599760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20920" y="4568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92520" y="60166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064120" y="45306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4064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76440" y="1695600"/>
            <a:ext cx="779112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tuk suatu lingkaran tertu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sambung pada titik lingka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yal mengalir dalam satu ar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hindari  coll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ungkinkan transfer data yang cep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ision detection lebih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244520" y="3016080"/>
            <a:ext cx="6502320" cy="2616480"/>
          </a:xfrm>
          <a:prstGeom prst="rect">
            <a:avLst/>
          </a:prstGeom>
          <a:noFill/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73160" y="514512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689120" y="5259240"/>
            <a:ext cx="741240" cy="757440"/>
            <a:chOff x="1689120" y="5259240"/>
            <a:chExt cx="741240" cy="757440"/>
          </a:xfrm>
        </p:grpSpPr>
        <p:sp>
          <p:nvSpPr>
            <p:cNvPr id="534" name=""/>
            <p:cNvSpPr/>
            <p:nvPr/>
          </p:nvSpPr>
          <p:spPr>
            <a:xfrm>
              <a:off x="168912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46360" y="530064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73340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812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1100160" y="533880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52440" y="535788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4040" y="287028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6000" y="2235240"/>
            <a:ext cx="72576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01800" y="227664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88480" y="297648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36720" y="274320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86000" y="2909880"/>
            <a:ext cx="540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86000" y="300204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81320" y="2946240"/>
            <a:ext cx="77976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02200" y="2311560"/>
            <a:ext cx="744480" cy="5490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60880" y="2352600"/>
            <a:ext cx="642960" cy="43200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4147920" y="30528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94000" y="2819520"/>
            <a:ext cx="5580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57680" y="2986200"/>
            <a:ext cx="5544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57680" y="3078000"/>
            <a:ext cx="55440" cy="320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43920" y="2906640"/>
            <a:ext cx="739440" cy="21924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262640" y="2320920"/>
            <a:ext cx="709920" cy="50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18440" y="2359080"/>
            <a:ext cx="612720" cy="39996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05840" y="300672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50120" y="279252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92920" y="2944800"/>
            <a:ext cx="49320" cy="25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92920" y="3030480"/>
            <a:ext cx="49320" cy="28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718320" y="5335560"/>
            <a:ext cx="741240" cy="757440"/>
            <a:chOff x="6718320" y="5335560"/>
            <a:chExt cx="741240" cy="757440"/>
          </a:xfrm>
        </p:grpSpPr>
        <p:sp>
          <p:nvSpPr>
            <p:cNvPr id="562" name=""/>
            <p:cNvSpPr/>
            <p:nvPr/>
          </p:nvSpPr>
          <p:spPr>
            <a:xfrm>
              <a:off x="6718320" y="53355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75560" y="53769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762600" y="609300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10480" y="58546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7626240" y="5145120"/>
            <a:ext cx="379440" cy="887400"/>
            <a:chOff x="7626240" y="5145120"/>
            <a:chExt cx="379440" cy="887400"/>
          </a:xfrm>
        </p:grpSpPr>
        <p:sp>
          <p:nvSpPr>
            <p:cNvPr id="567" name=""/>
            <p:cNvSpPr/>
            <p:nvPr/>
          </p:nvSpPr>
          <p:spPr>
            <a:xfrm>
              <a:off x="7626240" y="514512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53240" y="5338800"/>
              <a:ext cx="5256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05880" y="535788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6858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59292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553080" y="600552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326232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3962520" y="5067360"/>
            <a:ext cx="915840" cy="860400"/>
            <a:chOff x="3962520" y="5067360"/>
            <a:chExt cx="915840" cy="860400"/>
          </a:xfrm>
        </p:grpSpPr>
        <p:sp>
          <p:nvSpPr>
            <p:cNvPr id="576" name=""/>
            <p:cNvSpPr/>
            <p:nvPr/>
          </p:nvSpPr>
          <p:spPr>
            <a:xfrm>
              <a:off x="3962520" y="56293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38480" y="50673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13360" y="51372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68640" y="58770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78792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45280" y="34639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4928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3068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35720" y="62452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89720" y="616896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bungan membentuk geometri bint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hubung ke suatu konsen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bih han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860400" y="2363760"/>
            <a:ext cx="741240" cy="757440"/>
            <a:chOff x="860400" y="2363760"/>
            <a:chExt cx="741240" cy="757440"/>
          </a:xfrm>
        </p:grpSpPr>
        <p:sp>
          <p:nvSpPr>
            <p:cNvPr id="590" name=""/>
            <p:cNvSpPr/>
            <p:nvPr/>
          </p:nvSpPr>
          <p:spPr>
            <a:xfrm>
              <a:off x="860400" y="23637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17640" y="24051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904680" y="312120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52560" y="28828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835280" y="2211480"/>
            <a:ext cx="379440" cy="887400"/>
            <a:chOff x="1835280" y="2211480"/>
            <a:chExt cx="379440" cy="887400"/>
          </a:xfrm>
        </p:grpSpPr>
        <p:sp>
          <p:nvSpPr>
            <p:cNvPr id="595" name=""/>
            <p:cNvSpPr/>
            <p:nvPr/>
          </p:nvSpPr>
          <p:spPr>
            <a:xfrm>
              <a:off x="1835280" y="221148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62280" y="2405160"/>
              <a:ext cx="5220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14560" y="242424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976320" y="55753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98640" y="49402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54080" y="49816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041480" y="56815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89000" y="54482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38280" y="56149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38280" y="57070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43920" y="2792520"/>
            <a:ext cx="73944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62640" y="2206800"/>
            <a:ext cx="709920" cy="5061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8440" y="2244600"/>
            <a:ext cx="612720" cy="4003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7305840" y="289260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50120" y="267804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92920" y="28306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920" y="29163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6689880" y="5259240"/>
            <a:ext cx="741240" cy="757440"/>
            <a:chOff x="6689880" y="5259240"/>
            <a:chExt cx="741240" cy="757440"/>
          </a:xfrm>
        </p:grpSpPr>
        <p:sp>
          <p:nvSpPr>
            <p:cNvPr id="613" name=""/>
            <p:cNvSpPr/>
            <p:nvPr/>
          </p:nvSpPr>
          <p:spPr>
            <a:xfrm>
              <a:off x="668988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46760" y="5300640"/>
              <a:ext cx="64152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73416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816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7626240" y="5030640"/>
            <a:ext cx="379440" cy="887400"/>
            <a:chOff x="7626240" y="5030640"/>
            <a:chExt cx="379440" cy="887400"/>
          </a:xfrm>
        </p:grpSpPr>
        <p:sp>
          <p:nvSpPr>
            <p:cNvPr id="618" name=""/>
            <p:cNvSpPr/>
            <p:nvPr/>
          </p:nvSpPr>
          <p:spPr>
            <a:xfrm>
              <a:off x="7626240" y="503064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53240" y="5224320"/>
              <a:ext cx="52560" cy="28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05880" y="5243400"/>
              <a:ext cx="52200" cy="3204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282840" y="2654280"/>
            <a:ext cx="1435320" cy="368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591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877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163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449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91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877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163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449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578480" y="2730600"/>
            <a:ext cx="63360" cy="6336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2184120" y="2743200"/>
            <a:ext cx="12510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52480" y="2914560"/>
            <a:ext cx="1640160" cy="2782800"/>
          </a:xfrm>
          <a:custGeom>
            <a:avLst/>
            <a:gdLst/>
            <a:ahLst/>
            <a:rect l="l" t="t" r="r" b="b"/>
            <a:pathLst>
              <a:path w="1033" h="1753">
                <a:moveTo>
                  <a:pt x="1032" y="0"/>
                </a:moveTo>
                <a:lnTo>
                  <a:pt x="1032" y="864"/>
                </a:lnTo>
                <a:lnTo>
                  <a:pt x="288" y="864"/>
                </a:lnTo>
                <a:lnTo>
                  <a:pt x="288" y="1752"/>
                </a:lnTo>
                <a:lnTo>
                  <a:pt x="0" y="1752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19440" y="2933640"/>
            <a:ext cx="839880" cy="1982880"/>
          </a:xfrm>
          <a:custGeom>
            <a:avLst/>
            <a:gdLst/>
            <a:ahLst/>
            <a:rect l="l" t="t" r="r" b="b"/>
            <a:pathLst>
              <a:path w="529" h="1249">
                <a:moveTo>
                  <a:pt x="0" y="0"/>
                </a:moveTo>
                <a:lnTo>
                  <a:pt x="0" y="864"/>
                </a:lnTo>
                <a:lnTo>
                  <a:pt x="528" y="864"/>
                </a:lnTo>
                <a:lnTo>
                  <a:pt x="528" y="124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76640" y="2438280"/>
            <a:ext cx="3125880" cy="459000"/>
          </a:xfrm>
          <a:custGeom>
            <a:avLst/>
            <a:gdLst/>
            <a:ahLst/>
            <a:rect l="l" t="t" r="r" b="b"/>
            <a:pathLst>
              <a:path w="1969" h="289">
                <a:moveTo>
                  <a:pt x="0" y="204"/>
                </a:moveTo>
                <a:lnTo>
                  <a:pt x="0" y="0"/>
                </a:lnTo>
                <a:lnTo>
                  <a:pt x="1656" y="0"/>
                </a:lnTo>
                <a:lnTo>
                  <a:pt x="1656" y="288"/>
                </a:lnTo>
                <a:lnTo>
                  <a:pt x="1968" y="28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76640" y="2933640"/>
            <a:ext cx="3754440" cy="2077920"/>
          </a:xfrm>
          <a:custGeom>
            <a:avLst/>
            <a:gdLst/>
            <a:ahLst/>
            <a:rect l="l" t="t" r="r" b="b"/>
            <a:pathLst>
              <a:path w="2365" h="1309">
                <a:moveTo>
                  <a:pt x="0" y="0"/>
                </a:moveTo>
                <a:lnTo>
                  <a:pt x="0" y="588"/>
                </a:lnTo>
                <a:lnTo>
                  <a:pt x="2364" y="588"/>
                </a:lnTo>
                <a:lnTo>
                  <a:pt x="2364" y="130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34000" y="58910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095960" y="30718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23960" y="302436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57160" y="588168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962520" y="4952880"/>
            <a:ext cx="915840" cy="860400"/>
            <a:chOff x="3962520" y="4952880"/>
            <a:chExt cx="915840" cy="860400"/>
          </a:xfrm>
        </p:grpSpPr>
        <p:sp>
          <p:nvSpPr>
            <p:cNvPr id="641" name=""/>
            <p:cNvSpPr/>
            <p:nvPr/>
          </p:nvSpPr>
          <p:spPr>
            <a:xfrm>
              <a:off x="3962520" y="5514840"/>
              <a:ext cx="915840" cy="23040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38480" y="4952880"/>
              <a:ext cx="763560" cy="56376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13360" y="502272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68640" y="576252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739800" y="61117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30680" y="59403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26160" y="62071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92920" y="331164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51800" y="1730520"/>
            <a:ext cx="1710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entral 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consentra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85160" y="333072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1028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lementasi Jaringan dengan Berbagai N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90720" y="3416040"/>
            <a:ext cx="7200720" cy="22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90720" y="10476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68560" y="2400480"/>
            <a:ext cx="794376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gunakan luas dalam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awalnya dikembangkan oleh DARPA dalam jaringan ARP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adopsi menjadi protokol komunikasi sistem operasi Unix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kembangkan Xerox Co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er setelah diterima sebagai standard IEEE 802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cepatan 10 M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CSMA/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360" y="2823840"/>
            <a:ext cx="7181640" cy="23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IBM, berdasarkan standard IEEE 802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4 mbps dan 16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unakan token passing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62080" y="2401560"/>
            <a:ext cx="7182000" cy="28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DataPoint, dipopulerkan oleh Standard Micr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2,5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si : kabel RG-62, topologi 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ah jarang diguna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DI (Fiber Distributed Data Interface) digunakan dengan kabel fiber op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kompatibel dengan Ethernet, namun Ethernet dapat dienkapsulasi dalam paket FD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kan merupakan standard IE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ALASI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 CARD ETHER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352520" y="3676680"/>
            <a:ext cx="706752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stalasi Kab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nghubungkan PC ke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49480" y="2457360"/>
            <a:ext cx="79628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5140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ck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01520"/>
            <a:ext cx="777240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 coax, sebagai back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sang terminator, untuk termin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098720" y="2933640"/>
            <a:ext cx="102960" cy="3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2906640"/>
            <a:ext cx="101520" cy="874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ringan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57760" y="3157560"/>
            <a:ext cx="404640" cy="2184480"/>
          </a:xfrm>
          <a:custGeom>
            <a:avLst/>
            <a:gdLst/>
            <a:ahLst/>
            <a:rect l="l" t="t" r="r" b="b"/>
            <a:pathLst>
              <a:path w="255" h="1376">
                <a:moveTo>
                  <a:pt x="254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03200" y="557676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79600" y="521820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90760" y="4829040"/>
            <a:ext cx="387360" cy="3319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22440" y="4853160"/>
            <a:ext cx="333360" cy="2617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409480" y="528156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40080" y="514188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4520" y="5243400"/>
            <a:ext cx="2232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84520" y="530064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72960" y="55832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0652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26120" y="522288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37280" y="4834080"/>
            <a:ext cx="387360" cy="331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68960" y="4859280"/>
            <a:ext cx="333360" cy="2602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6156000" y="52880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186600" y="514656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31040" y="5248440"/>
            <a:ext cx="2232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31040" y="530532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29200" y="5635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6276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030560" y="4809960"/>
            <a:ext cx="750960" cy="703440"/>
            <a:chOff x="4030560" y="4809960"/>
            <a:chExt cx="750960" cy="703440"/>
          </a:xfrm>
        </p:grpSpPr>
        <p:grpSp>
          <p:nvGrpSpPr>
            <p:cNvPr id="694" name=""/>
            <p:cNvGrpSpPr/>
            <p:nvPr/>
          </p:nvGrpSpPr>
          <p:grpSpPr>
            <a:xfrm>
              <a:off x="4317840" y="4992840"/>
              <a:ext cx="387360" cy="331560"/>
              <a:chOff x="4317840" y="4992840"/>
              <a:chExt cx="387360" cy="331560"/>
            </a:xfrm>
          </p:grpSpPr>
          <p:sp>
            <p:nvSpPr>
              <p:cNvPr id="695" name=""/>
              <p:cNvSpPr/>
              <p:nvPr/>
            </p:nvSpPr>
            <p:spPr>
              <a:xfrm>
                <a:off x="4317840" y="4992840"/>
                <a:ext cx="387360" cy="33156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349880" y="5018040"/>
                <a:ext cx="333360" cy="2620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643280" y="5305320"/>
                <a:ext cx="24120" cy="144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4243320" y="5362560"/>
              <a:ext cx="538200" cy="150840"/>
            </a:xfrm>
            <a:custGeom>
              <a:avLst/>
              <a:gdLst/>
              <a:ahLst/>
              <a:rect l="l" t="t" r="r" b="b"/>
              <a:pathLst>
                <a:path w="339" h="95">
                  <a:moveTo>
                    <a:pt x="36" y="0"/>
                  </a:moveTo>
                  <a:lnTo>
                    <a:pt x="0" y="94"/>
                  </a:lnTo>
                  <a:lnTo>
                    <a:pt x="338" y="94"/>
                  </a:lnTo>
                  <a:lnTo>
                    <a:pt x="302" y="0"/>
                  </a:lnTo>
                  <a:lnTo>
                    <a:pt x="36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4030560" y="4809960"/>
              <a:ext cx="179640" cy="582840"/>
              <a:chOff x="4030560" y="4809960"/>
              <a:chExt cx="179640" cy="582840"/>
            </a:xfrm>
          </p:grpSpPr>
          <p:sp>
            <p:nvSpPr>
              <p:cNvPr id="700" name=""/>
              <p:cNvSpPr/>
              <p:nvPr/>
            </p:nvSpPr>
            <p:spPr>
              <a:xfrm>
                <a:off x="4030560" y="4809960"/>
                <a:ext cx="179640" cy="582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4052520" y="5154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159080" y="4896000"/>
                <a:ext cx="2232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110120" y="4892760"/>
                <a:ext cx="22320" cy="14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4052520" y="51958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4052520" y="5235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1574640" y="2962440"/>
            <a:ext cx="5967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337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7003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6100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416320" y="306864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54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021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687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784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284720" y="3068640"/>
            <a:ext cx="177840" cy="17928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111" y="0"/>
                </a:moveTo>
                <a:lnTo>
                  <a:pt x="111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1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338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1340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80000" y="2887560"/>
            <a:ext cx="263880" cy="1144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89640" y="3019320"/>
            <a:ext cx="453960" cy="26208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195960" y="306396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45080" y="3083040"/>
            <a:ext cx="33192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1456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6900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019600" y="412596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96960" y="333540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68400" y="363528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8584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52440" y="2887560"/>
            <a:ext cx="262080" cy="115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62080" y="301932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7520" y="308304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1031400" y="3036600"/>
            <a:ext cx="41400" cy="58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583400" y="2911320"/>
            <a:ext cx="217440" cy="87480"/>
            <a:chOff x="7583400" y="2911320"/>
            <a:chExt cx="217440" cy="87480"/>
          </a:xfrm>
        </p:grpSpPr>
        <p:sp>
          <p:nvSpPr>
            <p:cNvPr id="733" name=""/>
            <p:cNvSpPr/>
            <p:nvPr/>
          </p:nvSpPr>
          <p:spPr>
            <a:xfrm>
              <a:off x="7583400" y="2938320"/>
              <a:ext cx="103320" cy="349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99320" y="2911320"/>
              <a:ext cx="101520" cy="87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7134480" y="362592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22952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94680" y="2892600"/>
            <a:ext cx="26172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20576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6120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7804080" y="3041640"/>
            <a:ext cx="84240" cy="598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n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bel thin coax sebagai segmen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untuk membentuk satu seg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sang Terminator 50 oh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8139240" y="4559400"/>
            <a:ext cx="11088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148600" y="31399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71560" y="313056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80920" y="45403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38560" y="6140520"/>
            <a:ext cx="52992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376360" y="187308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7184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1956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224760" y="1873080"/>
            <a:ext cx="52992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243480" y="6140520"/>
            <a:ext cx="53028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Jaringan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919080" y="1914480"/>
            <a:ext cx="320220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2016" y="0"/>
                </a:moveTo>
                <a:lnTo>
                  <a:pt x="0" y="0"/>
                </a:lnTo>
                <a:lnTo>
                  <a:pt x="0" y="2688"/>
                </a:lnTo>
                <a:lnTo>
                  <a:pt x="1296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33676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4468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3702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14680" y="285120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70360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256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256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07960" y="3500280"/>
            <a:ext cx="46224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15880" y="31305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414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85880" y="356076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7480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968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4968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9392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40184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42704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71480" y="4932360"/>
            <a:ext cx="1368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6040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8284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8284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2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98440" y="3400560"/>
            <a:ext cx="16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12840" y="4800600"/>
            <a:ext cx="17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62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592440" y="1844640"/>
            <a:ext cx="301680" cy="311040"/>
            <a:chOff x="3592440" y="1844640"/>
            <a:chExt cx="301680" cy="311040"/>
          </a:xfrm>
        </p:grpSpPr>
        <p:sp>
          <p:nvSpPr>
            <p:cNvPr id="781" name=""/>
            <p:cNvSpPr/>
            <p:nvPr/>
          </p:nvSpPr>
          <p:spPr>
            <a:xfrm>
              <a:off x="35924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687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2487600" y="1854360"/>
            <a:ext cx="301680" cy="311040"/>
            <a:chOff x="2487600" y="1854360"/>
            <a:chExt cx="301680" cy="311040"/>
          </a:xfrm>
        </p:grpSpPr>
        <p:sp>
          <p:nvSpPr>
            <p:cNvPr id="784" name=""/>
            <p:cNvSpPr/>
            <p:nvPr/>
          </p:nvSpPr>
          <p:spPr>
            <a:xfrm>
              <a:off x="248760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6392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853920" y="3249720"/>
            <a:ext cx="311400" cy="301680"/>
            <a:chOff x="853920" y="3249720"/>
            <a:chExt cx="311400" cy="301680"/>
          </a:xfrm>
        </p:grpSpPr>
        <p:sp>
          <p:nvSpPr>
            <p:cNvPr id="787" name=""/>
            <p:cNvSpPr/>
            <p:nvPr/>
          </p:nvSpPr>
          <p:spPr>
            <a:xfrm>
              <a:off x="853920" y="3249720"/>
              <a:ext cx="15876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1592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863640" y="4659480"/>
            <a:ext cx="311040" cy="301320"/>
            <a:chOff x="863640" y="4659480"/>
            <a:chExt cx="311040" cy="301320"/>
          </a:xfrm>
        </p:grpSpPr>
        <p:sp>
          <p:nvSpPr>
            <p:cNvPr id="790" name=""/>
            <p:cNvSpPr/>
            <p:nvPr/>
          </p:nvSpPr>
          <p:spPr>
            <a:xfrm>
              <a:off x="863640" y="4659480"/>
              <a:ext cx="15876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25640" y="4735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2468520" y="5969160"/>
            <a:ext cx="301680" cy="311040"/>
            <a:chOff x="2468520" y="5969160"/>
            <a:chExt cx="301680" cy="311040"/>
          </a:xfrm>
        </p:grpSpPr>
        <p:sp>
          <p:nvSpPr>
            <p:cNvPr id="793" name=""/>
            <p:cNvSpPr/>
            <p:nvPr/>
          </p:nvSpPr>
          <p:spPr>
            <a:xfrm>
              <a:off x="2468520" y="61214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44840" y="596916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897280" y="6121440"/>
            <a:ext cx="282600" cy="129960"/>
            <a:chOff x="2897280" y="6121440"/>
            <a:chExt cx="282600" cy="129960"/>
          </a:xfrm>
        </p:grpSpPr>
        <p:sp>
          <p:nvSpPr>
            <p:cNvPr id="796" name=""/>
            <p:cNvSpPr/>
            <p:nvPr/>
          </p:nvSpPr>
          <p:spPr>
            <a:xfrm>
              <a:off x="2897280" y="612144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116160" y="614988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021200" y="1854360"/>
            <a:ext cx="282600" cy="129960"/>
            <a:chOff x="4021200" y="1854360"/>
            <a:chExt cx="282600" cy="129960"/>
          </a:xfrm>
        </p:grpSpPr>
        <p:sp>
          <p:nvSpPr>
            <p:cNvPr id="799" name=""/>
            <p:cNvSpPr/>
            <p:nvPr/>
          </p:nvSpPr>
          <p:spPr>
            <a:xfrm>
              <a:off x="402120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4008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921240" y="2290680"/>
            <a:ext cx="1394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-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1022400" y="2535120"/>
            <a:ext cx="412560" cy="7732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620720" y="2008080"/>
            <a:ext cx="944640" cy="3556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08160" y="31910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31560" y="38768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16028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93360" y="484812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217680" y="6058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03560" y="20239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008680" y="1914480"/>
            <a:ext cx="320184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0" y="0"/>
                </a:moveTo>
                <a:lnTo>
                  <a:pt x="2016" y="0"/>
                </a:lnTo>
                <a:lnTo>
                  <a:pt x="2016" y="2688"/>
                </a:lnTo>
                <a:lnTo>
                  <a:pt x="720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2952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212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770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6364080" y="2851200"/>
            <a:ext cx="1616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9756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754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6754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257960" y="35002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270920" y="3130560"/>
            <a:ext cx="44100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058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7292880" y="35607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32636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042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042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27236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28496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31988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7307280" y="49323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34076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61832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61832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9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7743960" y="3400560"/>
            <a:ext cx="210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7715160" y="4800600"/>
            <a:ext cx="225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49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234040" y="1844640"/>
            <a:ext cx="301680" cy="311040"/>
            <a:chOff x="5234040" y="1844640"/>
            <a:chExt cx="301680" cy="311040"/>
          </a:xfrm>
        </p:grpSpPr>
        <p:sp>
          <p:nvSpPr>
            <p:cNvPr id="837" name=""/>
            <p:cNvSpPr/>
            <p:nvPr/>
          </p:nvSpPr>
          <p:spPr>
            <a:xfrm>
              <a:off x="52340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103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338880" y="1854360"/>
            <a:ext cx="301680" cy="311040"/>
            <a:chOff x="6338880" y="1854360"/>
            <a:chExt cx="301680" cy="311040"/>
          </a:xfrm>
        </p:grpSpPr>
        <p:sp>
          <p:nvSpPr>
            <p:cNvPr id="840" name=""/>
            <p:cNvSpPr/>
            <p:nvPr/>
          </p:nvSpPr>
          <p:spPr>
            <a:xfrm>
              <a:off x="633888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1520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7962840" y="3249720"/>
            <a:ext cx="311040" cy="301680"/>
            <a:chOff x="7962840" y="3249720"/>
            <a:chExt cx="311040" cy="301680"/>
          </a:xfrm>
        </p:grpSpPr>
        <p:sp>
          <p:nvSpPr>
            <p:cNvPr id="843" name=""/>
            <p:cNvSpPr/>
            <p:nvPr/>
          </p:nvSpPr>
          <p:spPr>
            <a:xfrm>
              <a:off x="8115480" y="3249720"/>
              <a:ext cx="15840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6284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7943760" y="4659480"/>
            <a:ext cx="330120" cy="301320"/>
            <a:chOff x="7943760" y="4659480"/>
            <a:chExt cx="330120" cy="301320"/>
          </a:xfrm>
        </p:grpSpPr>
        <p:sp>
          <p:nvSpPr>
            <p:cNvPr id="846" name=""/>
            <p:cNvSpPr/>
            <p:nvPr/>
          </p:nvSpPr>
          <p:spPr>
            <a:xfrm>
              <a:off x="8105760" y="4659480"/>
              <a:ext cx="16812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943760" y="4735440"/>
              <a:ext cx="15876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357960" y="5959440"/>
            <a:ext cx="301680" cy="311040"/>
            <a:chOff x="6357960" y="5959440"/>
            <a:chExt cx="301680" cy="311040"/>
          </a:xfrm>
        </p:grpSpPr>
        <p:sp>
          <p:nvSpPr>
            <p:cNvPr id="849" name=""/>
            <p:cNvSpPr/>
            <p:nvPr/>
          </p:nvSpPr>
          <p:spPr>
            <a:xfrm>
              <a:off x="6357960" y="611172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34280" y="5959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929200" y="6140520"/>
            <a:ext cx="282600" cy="129960"/>
            <a:chOff x="5929200" y="6140520"/>
            <a:chExt cx="282600" cy="129960"/>
          </a:xfrm>
        </p:grpSpPr>
        <p:sp>
          <p:nvSpPr>
            <p:cNvPr id="852" name=""/>
            <p:cNvSpPr/>
            <p:nvPr/>
          </p:nvSpPr>
          <p:spPr>
            <a:xfrm>
              <a:off x="6005520" y="614052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929200" y="616896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786200" y="1854360"/>
            <a:ext cx="282600" cy="129960"/>
            <a:chOff x="4786200" y="1854360"/>
            <a:chExt cx="282600" cy="129960"/>
          </a:xfrm>
        </p:grpSpPr>
        <p:sp>
          <p:nvSpPr>
            <p:cNvPr id="855" name=""/>
            <p:cNvSpPr/>
            <p:nvPr/>
          </p:nvSpPr>
          <p:spPr>
            <a:xfrm>
              <a:off x="486252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8620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6060960" y="315288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027560" y="3952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746320" y="486720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1820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673520" y="60865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51440" y="2622600"/>
            <a:ext cx="1012680" cy="527040"/>
          </a:xfrm>
          <a:prstGeom prst="rect">
            <a:avLst/>
          </a:prstGeom>
          <a:gradFill rotWithShape="0">
            <a:gsLst>
              <a:gs pos="0">
                <a:srgbClr val="4b968f"/>
              </a:gs>
              <a:gs pos="100000">
                <a:srgbClr val="006b61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53000" y="2133720"/>
            <a:ext cx="496800" cy="477720"/>
          </a:xfrm>
          <a:custGeom>
            <a:avLst/>
            <a:gdLst/>
            <a:ahLst/>
            <a:rect l="l" t="t" r="r" b="b"/>
            <a:pathLst>
              <a:path w="313" h="301">
                <a:moveTo>
                  <a:pt x="0" y="0"/>
                </a:moveTo>
                <a:lnTo>
                  <a:pt x="0" y="156"/>
                </a:lnTo>
                <a:lnTo>
                  <a:pt x="312" y="156"/>
                </a:lnTo>
                <a:lnTo>
                  <a:pt x="312" y="30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876920" y="2152800"/>
            <a:ext cx="515880" cy="458640"/>
          </a:xfrm>
          <a:custGeom>
            <a:avLst/>
            <a:gdLst/>
            <a:ahLst/>
            <a:rect l="l" t="t" r="r" b="b"/>
            <a:pathLst>
              <a:path w="325" h="289">
                <a:moveTo>
                  <a:pt x="324" y="0"/>
                </a:moveTo>
                <a:lnTo>
                  <a:pt x="324" y="132"/>
                </a:lnTo>
                <a:lnTo>
                  <a:pt x="0" y="132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204080" y="3228840"/>
            <a:ext cx="81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e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66920" y="2986200"/>
            <a:ext cx="61128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33440" y="369108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314360" y="508176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248520" y="2986200"/>
            <a:ext cx="61092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82000" y="36910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201080" y="50626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759280" y="5157720"/>
            <a:ext cx="852480" cy="666720"/>
            <a:chOff x="5759280" y="5157720"/>
            <a:chExt cx="852480" cy="666720"/>
          </a:xfrm>
        </p:grpSpPr>
        <p:grpSp>
          <p:nvGrpSpPr>
            <p:cNvPr id="873" name=""/>
            <p:cNvGrpSpPr/>
            <p:nvPr/>
          </p:nvGrpSpPr>
          <p:grpSpPr>
            <a:xfrm>
              <a:off x="5843520" y="5330880"/>
              <a:ext cx="441360" cy="314280"/>
              <a:chOff x="5843520" y="5330880"/>
              <a:chExt cx="441360" cy="314280"/>
            </a:xfrm>
          </p:grpSpPr>
          <p:sp>
            <p:nvSpPr>
              <p:cNvPr id="874" name=""/>
              <p:cNvSpPr/>
              <p:nvPr/>
            </p:nvSpPr>
            <p:spPr>
              <a:xfrm>
                <a:off x="5843520" y="533088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69080" y="535464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88160" y="5627520"/>
                <a:ext cx="27000" cy="129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5759280" y="568152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343" y="0"/>
                  </a:moveTo>
                  <a:lnTo>
                    <a:pt x="384" y="89"/>
                  </a:lnTo>
                  <a:lnTo>
                    <a:pt x="0" y="89"/>
                  </a:lnTo>
                  <a:lnTo>
                    <a:pt x="41" y="0"/>
                  </a:lnTo>
                  <a:lnTo>
                    <a:pt x="343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6407280" y="5157720"/>
              <a:ext cx="204480" cy="552600"/>
              <a:chOff x="6407280" y="5157720"/>
              <a:chExt cx="204480" cy="552600"/>
            </a:xfrm>
          </p:grpSpPr>
          <p:sp>
            <p:nvSpPr>
              <p:cNvPr id="879" name=""/>
              <p:cNvSpPr/>
              <p:nvPr/>
            </p:nvSpPr>
            <p:spPr>
              <a:xfrm>
                <a:off x="6407280" y="5157720"/>
                <a:ext cx="204480" cy="55260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437160" y="54849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438960" y="5238720"/>
                <a:ext cx="27000" cy="11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496200" y="5235480"/>
                <a:ext cx="27000" cy="1296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437160" y="55227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437160" y="556092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"/>
          <p:cNvGrpSpPr/>
          <p:nvPr/>
        </p:nvGrpSpPr>
        <p:grpSpPr>
          <a:xfrm>
            <a:off x="2519280" y="5167440"/>
            <a:ext cx="854280" cy="666720"/>
            <a:chOff x="2519280" y="5167440"/>
            <a:chExt cx="854280" cy="666720"/>
          </a:xfrm>
        </p:grpSpPr>
        <p:grpSp>
          <p:nvGrpSpPr>
            <p:cNvPr id="886" name=""/>
            <p:cNvGrpSpPr/>
            <p:nvPr/>
          </p:nvGrpSpPr>
          <p:grpSpPr>
            <a:xfrm>
              <a:off x="2846520" y="5340240"/>
              <a:ext cx="441360" cy="314280"/>
              <a:chOff x="2846520" y="5340240"/>
              <a:chExt cx="441360" cy="314280"/>
            </a:xfrm>
          </p:grpSpPr>
          <p:sp>
            <p:nvSpPr>
              <p:cNvPr id="887" name=""/>
              <p:cNvSpPr/>
              <p:nvPr/>
            </p:nvSpPr>
            <p:spPr>
              <a:xfrm>
                <a:off x="2846520" y="534024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881440" y="536400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16240" y="5637240"/>
                <a:ext cx="2700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2762280" y="569124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41" y="0"/>
                  </a:moveTo>
                  <a:lnTo>
                    <a:pt x="0" y="89"/>
                  </a:lnTo>
                  <a:lnTo>
                    <a:pt x="384" y="89"/>
                  </a:lnTo>
                  <a:lnTo>
                    <a:pt x="343" y="0"/>
                  </a:lnTo>
                  <a:lnTo>
                    <a:pt x="41" y="0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519280" y="5167440"/>
              <a:ext cx="204840" cy="552240"/>
              <a:chOff x="2519280" y="5167440"/>
              <a:chExt cx="204840" cy="552240"/>
            </a:xfrm>
          </p:grpSpPr>
          <p:sp>
            <p:nvSpPr>
              <p:cNvPr id="892" name=""/>
              <p:cNvSpPr/>
              <p:nvPr/>
            </p:nvSpPr>
            <p:spPr>
              <a:xfrm>
                <a:off x="2519280" y="5167440"/>
                <a:ext cx="204840" cy="5522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2544840" y="549432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65440" y="5248440"/>
                <a:ext cx="27000" cy="10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608200" y="5245200"/>
                <a:ext cx="27000" cy="1260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2544840" y="553248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2544840" y="557064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6995880" y="240984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6794280" y="2031840"/>
            <a:ext cx="726840" cy="3938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721640" y="2635200"/>
            <a:ext cx="387360" cy="4255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761760" y="1714680"/>
            <a:ext cx="327636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BNC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jang minimum 18 inch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834080" y="1666800"/>
            <a:ext cx="209520" cy="200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716360" y="4995720"/>
            <a:ext cx="358920" cy="668520"/>
            <a:chOff x="4716360" y="4995720"/>
            <a:chExt cx="358920" cy="668520"/>
          </a:xfrm>
        </p:grpSpPr>
        <p:sp>
          <p:nvSpPr>
            <p:cNvPr id="905" name=""/>
            <p:cNvSpPr/>
            <p:nvPr/>
          </p:nvSpPr>
          <p:spPr>
            <a:xfrm>
              <a:off x="4716360" y="532116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78280" y="5089680"/>
              <a:ext cx="235080" cy="218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778280" y="548640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34000" y="499572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941720" y="5124600"/>
              <a:ext cx="0" cy="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4827240" y="5165640"/>
              <a:ext cx="127080" cy="3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4263840" y="571356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38560" y="452448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759200" y="428940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75080" y="4484520"/>
            <a:ext cx="381240" cy="260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10080" y="4437000"/>
            <a:ext cx="12240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330800" y="4452840"/>
            <a:ext cx="52200" cy="316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876920" y="486576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76920" y="433404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397400" y="4503600"/>
            <a:ext cx="71280" cy="138240"/>
          </a:xfrm>
          <a:custGeom>
            <a:avLst/>
            <a:gdLst/>
            <a:ahLst/>
            <a:rect l="l" t="t" r="r" b="b"/>
            <a:pathLst>
              <a:path w="45" h="87">
                <a:moveTo>
                  <a:pt x="44" y="86"/>
                </a:moveTo>
                <a:lnTo>
                  <a:pt x="2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4687920" y="3805200"/>
            <a:ext cx="396720" cy="436680"/>
            <a:chOff x="4687920" y="3805200"/>
            <a:chExt cx="396720" cy="436680"/>
          </a:xfrm>
        </p:grpSpPr>
        <p:sp>
          <p:nvSpPr>
            <p:cNvPr id="921" name=""/>
            <p:cNvSpPr/>
            <p:nvPr/>
          </p:nvSpPr>
          <p:spPr>
            <a:xfrm>
              <a:off x="4687920" y="3805200"/>
              <a:ext cx="396720" cy="13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764240" y="396252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34000" y="4157640"/>
              <a:ext cx="30456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54600" y="4024440"/>
              <a:ext cx="109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38840" y="407196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5164200" y="392436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943520" y="176688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834080" y="1795320"/>
            <a:ext cx="107640" cy="2003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881840" y="1676520"/>
            <a:ext cx="243000" cy="218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53320" y="17953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001000" y="1795320"/>
            <a:ext cx="128520" cy="194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971960" y="1666800"/>
            <a:ext cx="3000600" cy="128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7888320" y="3757680"/>
            <a:ext cx="396720" cy="436320"/>
            <a:chOff x="7888320" y="3757680"/>
            <a:chExt cx="396720" cy="436320"/>
          </a:xfrm>
        </p:grpSpPr>
        <p:sp>
          <p:nvSpPr>
            <p:cNvPr id="934" name=""/>
            <p:cNvSpPr/>
            <p:nvPr/>
          </p:nvSpPr>
          <p:spPr>
            <a:xfrm>
              <a:off x="7888320" y="3757680"/>
              <a:ext cx="396720" cy="13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64640" y="391464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34400" y="4110120"/>
              <a:ext cx="30456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055000" y="3976560"/>
              <a:ext cx="109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139240" y="402444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7897680" y="4991040"/>
            <a:ext cx="358920" cy="668520"/>
            <a:chOff x="7897680" y="4991040"/>
            <a:chExt cx="358920" cy="668520"/>
          </a:xfrm>
        </p:grpSpPr>
        <p:sp>
          <p:nvSpPr>
            <p:cNvPr id="940" name=""/>
            <p:cNvSpPr/>
            <p:nvPr/>
          </p:nvSpPr>
          <p:spPr>
            <a:xfrm>
              <a:off x="7897680" y="531648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59600" y="5084640"/>
              <a:ext cx="235080" cy="219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74000" y="548172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915320" y="499104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031240" y="511344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037360" y="5154480"/>
              <a:ext cx="889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7473600" y="5680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967520" y="425592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217000" y="4451400"/>
            <a:ext cx="380880" cy="260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340840" y="4403880"/>
            <a:ext cx="12204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589960" y="4419720"/>
            <a:ext cx="52560" cy="315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061480" y="483228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061480" y="430056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505720" y="4470480"/>
            <a:ext cx="71640" cy="137880"/>
          </a:xfrm>
          <a:custGeom>
            <a:avLst/>
            <a:gdLst/>
            <a:ahLst/>
            <a:rect l="l" t="t" r="r" b="b"/>
            <a:pathLst>
              <a:path w="45" h="87">
                <a:moveTo>
                  <a:pt x="0" y="86"/>
                </a:moveTo>
                <a:lnTo>
                  <a:pt x="22" y="0"/>
                </a:lnTo>
                <a:lnTo>
                  <a:pt x="44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674040" y="391968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305480" y="446256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662440" y="1957320"/>
            <a:ext cx="1659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19640" y="1542960"/>
            <a:ext cx="192240" cy="306360"/>
          </a:xfrm>
          <a:custGeom>
            <a:avLst/>
            <a:gdLst/>
            <a:ahLst/>
            <a:rect l="l" t="t" r="r" b="b"/>
            <a:pathLst>
              <a:path w="121" h="193">
                <a:moveTo>
                  <a:pt x="0" y="0"/>
                </a:moveTo>
                <a:lnTo>
                  <a:pt x="28" y="17"/>
                </a:lnTo>
                <a:lnTo>
                  <a:pt x="42" y="50"/>
                </a:lnTo>
                <a:lnTo>
                  <a:pt x="49" y="117"/>
                </a:lnTo>
                <a:lnTo>
                  <a:pt x="49" y="150"/>
                </a:lnTo>
                <a:lnTo>
                  <a:pt x="49" y="175"/>
                </a:lnTo>
                <a:lnTo>
                  <a:pt x="78" y="192"/>
                </a:lnTo>
                <a:lnTo>
                  <a:pt x="99" y="192"/>
                </a:lnTo>
                <a:lnTo>
                  <a:pt x="120" y="192"/>
                </a:lnTo>
                <a:lnTo>
                  <a:pt x="120" y="167"/>
                </a:lnTo>
                <a:lnTo>
                  <a:pt x="99" y="134"/>
                </a:lnTo>
                <a:lnTo>
                  <a:pt x="99" y="100"/>
                </a:lnTo>
                <a:lnTo>
                  <a:pt x="99" y="75"/>
                </a:lnTo>
                <a:lnTo>
                  <a:pt x="99" y="50"/>
                </a:lnTo>
                <a:lnTo>
                  <a:pt x="78" y="33"/>
                </a:lnTo>
                <a:lnTo>
                  <a:pt x="56" y="33"/>
                </a:lnTo>
                <a:lnTo>
                  <a:pt x="35" y="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Protocols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dan Software In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oda pengalamatan yang u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uatu keluarga besar “protoko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57000" y="2543040"/>
            <a:ext cx="3552840" cy="35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transceiver dan drop cable melalui konektor DB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757760" y="1562040"/>
            <a:ext cx="347760" cy="35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240520" y="340992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448240" y="1576440"/>
            <a:ext cx="243000" cy="228600"/>
          </a:xfrm>
          <a:prstGeom prst="ellipse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010120" y="181440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531200" y="440064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767920" y="1995480"/>
            <a:ext cx="157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748040" y="1766880"/>
            <a:ext cx="255600" cy="12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862760" y="1552680"/>
            <a:ext cx="376200" cy="39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734240" y="18241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77240" y="1785960"/>
            <a:ext cx="270000" cy="17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986360" y="1552680"/>
            <a:ext cx="30240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486400" y="1447920"/>
            <a:ext cx="382680" cy="458640"/>
          </a:xfrm>
          <a:custGeom>
            <a:avLst/>
            <a:gdLst/>
            <a:ahLst/>
            <a:rect l="l" t="t" r="r" b="b"/>
            <a:pathLst>
              <a:path w="241" h="289">
                <a:moveTo>
                  <a:pt x="53" y="6"/>
                </a:moveTo>
                <a:lnTo>
                  <a:pt x="67" y="25"/>
                </a:lnTo>
                <a:lnTo>
                  <a:pt x="58" y="49"/>
                </a:lnTo>
                <a:lnTo>
                  <a:pt x="32" y="74"/>
                </a:lnTo>
                <a:lnTo>
                  <a:pt x="80" y="110"/>
                </a:lnTo>
                <a:lnTo>
                  <a:pt x="84" y="135"/>
                </a:lnTo>
                <a:lnTo>
                  <a:pt x="89" y="159"/>
                </a:lnTo>
                <a:lnTo>
                  <a:pt x="98" y="184"/>
                </a:lnTo>
                <a:lnTo>
                  <a:pt x="111" y="196"/>
                </a:lnTo>
                <a:lnTo>
                  <a:pt x="124" y="214"/>
                </a:lnTo>
                <a:lnTo>
                  <a:pt x="138" y="227"/>
                </a:lnTo>
                <a:lnTo>
                  <a:pt x="164" y="239"/>
                </a:lnTo>
                <a:lnTo>
                  <a:pt x="191" y="245"/>
                </a:lnTo>
                <a:lnTo>
                  <a:pt x="218" y="257"/>
                </a:lnTo>
                <a:lnTo>
                  <a:pt x="231" y="270"/>
                </a:lnTo>
                <a:lnTo>
                  <a:pt x="240" y="288"/>
                </a:lnTo>
                <a:lnTo>
                  <a:pt x="67" y="288"/>
                </a:lnTo>
                <a:lnTo>
                  <a:pt x="67" y="288"/>
                </a:lnTo>
                <a:lnTo>
                  <a:pt x="62" y="270"/>
                </a:lnTo>
                <a:lnTo>
                  <a:pt x="58" y="251"/>
                </a:lnTo>
                <a:lnTo>
                  <a:pt x="88" y="251"/>
                </a:lnTo>
                <a:lnTo>
                  <a:pt x="58" y="214"/>
                </a:lnTo>
                <a:lnTo>
                  <a:pt x="58" y="196"/>
                </a:lnTo>
                <a:lnTo>
                  <a:pt x="58" y="178"/>
                </a:lnTo>
                <a:lnTo>
                  <a:pt x="53" y="153"/>
                </a:lnTo>
                <a:lnTo>
                  <a:pt x="44" y="129"/>
                </a:lnTo>
                <a:lnTo>
                  <a:pt x="31" y="110"/>
                </a:lnTo>
                <a:lnTo>
                  <a:pt x="18" y="98"/>
                </a:lnTo>
                <a:lnTo>
                  <a:pt x="4" y="80"/>
                </a:lnTo>
                <a:lnTo>
                  <a:pt x="0" y="61"/>
                </a:lnTo>
                <a:lnTo>
                  <a:pt x="4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149800" y="3863880"/>
            <a:ext cx="873000" cy="1487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692600" y="3949560"/>
            <a:ext cx="430200" cy="1287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4673520" y="5405400"/>
            <a:ext cx="411120" cy="730440"/>
            <a:chOff x="4673520" y="5405400"/>
            <a:chExt cx="411120" cy="730440"/>
          </a:xfrm>
        </p:grpSpPr>
        <p:sp>
          <p:nvSpPr>
            <p:cNvPr id="975" name=""/>
            <p:cNvSpPr/>
            <p:nvPr/>
          </p:nvSpPr>
          <p:spPr>
            <a:xfrm>
              <a:off x="4691160" y="5405400"/>
              <a:ext cx="38088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721400" y="5707080"/>
              <a:ext cx="32040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673520" y="5492880"/>
              <a:ext cx="411120" cy="334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4687920" y="5921280"/>
            <a:ext cx="363600" cy="32076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50000">
                <a:srgbClr val="fefefe"/>
              </a:gs>
              <a:gs pos="100000">
                <a:srgbClr val="fc012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249880" y="5378400"/>
            <a:ext cx="687240" cy="44640"/>
          </a:xfrm>
          <a:prstGeom prst="rect">
            <a:avLst/>
          </a:prstGeom>
          <a:solidFill>
            <a:srgbClr val="b1b1b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95840" y="5637240"/>
            <a:ext cx="101268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51480" y="4746960"/>
            <a:ext cx="1555560" cy="159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99160" y="5712480"/>
            <a:ext cx="796680" cy="53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445000" y="4863960"/>
            <a:ext cx="1501560" cy="137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815080" y="3886200"/>
            <a:ext cx="199800" cy="1447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da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315040" y="5443560"/>
            <a:ext cx="573120" cy="515880"/>
          </a:xfrm>
          <a:custGeom>
            <a:avLst/>
            <a:gdLst/>
            <a:ahLst/>
            <a:rect l="l" t="t" r="r" b="b"/>
            <a:pathLst>
              <a:path w="361" h="325">
                <a:moveTo>
                  <a:pt x="0" y="0"/>
                </a:moveTo>
                <a:lnTo>
                  <a:pt x="360" y="0"/>
                </a:lnTo>
                <a:lnTo>
                  <a:pt x="360" y="171"/>
                </a:lnTo>
                <a:lnTo>
                  <a:pt x="253" y="324"/>
                </a:lnTo>
                <a:lnTo>
                  <a:pt x="115" y="324"/>
                </a:lnTo>
                <a:lnTo>
                  <a:pt x="0" y="198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778800" y="5073480"/>
            <a:ext cx="415800" cy="5904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695840" y="3981600"/>
            <a:ext cx="128520" cy="12427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359480" y="5129280"/>
            <a:ext cx="72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B 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 n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194160" y="436248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461120" y="638640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81440" y="3643200"/>
            <a:ext cx="381240" cy="84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711680" y="2995560"/>
            <a:ext cx="320760" cy="428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64160" y="3305160"/>
            <a:ext cx="411120" cy="334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7907400" y="3500280"/>
            <a:ext cx="411120" cy="731880"/>
            <a:chOff x="7907400" y="3500280"/>
            <a:chExt cx="411120" cy="731880"/>
          </a:xfrm>
        </p:grpSpPr>
        <p:sp>
          <p:nvSpPr>
            <p:cNvPr id="995" name=""/>
            <p:cNvSpPr/>
            <p:nvPr/>
          </p:nvSpPr>
          <p:spPr>
            <a:xfrm>
              <a:off x="7924680" y="4148280"/>
              <a:ext cx="38124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954920" y="3500280"/>
              <a:ext cx="32076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907400" y="3809880"/>
              <a:ext cx="411120" cy="335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6821640" y="615312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573880" y="5628960"/>
            <a:ext cx="1065960" cy="72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91360" y="4962600"/>
            <a:ext cx="15994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10400" y="5133960"/>
            <a:ext cx="544320" cy="544680"/>
          </a:xfrm>
          <a:custGeom>
            <a:avLst/>
            <a:gdLst/>
            <a:ahLst/>
            <a:rect l="l" t="t" r="r" b="b"/>
            <a:pathLst>
              <a:path w="343" h="343">
                <a:moveTo>
                  <a:pt x="0" y="0"/>
                </a:moveTo>
                <a:lnTo>
                  <a:pt x="342" y="0"/>
                </a:lnTo>
                <a:lnTo>
                  <a:pt x="342" y="181"/>
                </a:lnTo>
                <a:lnTo>
                  <a:pt x="240" y="342"/>
                </a:lnTo>
                <a:lnTo>
                  <a:pt x="109" y="342"/>
                </a:lnTo>
                <a:lnTo>
                  <a:pt x="0" y="209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10bas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91720" y="2158920"/>
            <a:ext cx="4165560" cy="20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RJ-45 atau RJ-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ada persilangan antar kaki-kaki konek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862680" y="3666960"/>
            <a:ext cx="2106720" cy="1316160"/>
            <a:chOff x="6862680" y="3666960"/>
            <a:chExt cx="2106720" cy="1316160"/>
          </a:xfrm>
        </p:grpSpPr>
        <p:grpSp>
          <p:nvGrpSpPr>
            <p:cNvPr id="1005" name=""/>
            <p:cNvGrpSpPr/>
            <p:nvPr/>
          </p:nvGrpSpPr>
          <p:grpSpPr>
            <a:xfrm>
              <a:off x="6862680" y="4573440"/>
              <a:ext cx="1657440" cy="265320"/>
              <a:chOff x="6862680" y="4573440"/>
              <a:chExt cx="1657440" cy="26532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6862680" y="4573440"/>
                <a:ext cx="1657440" cy="265320"/>
                <a:chOff x="6862680" y="4573440"/>
                <a:chExt cx="1657440" cy="26532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6862680" y="46404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870600" y="45734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888240" y="4680000"/>
                  <a:ext cx="131436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8201160" y="4630680"/>
                <a:ext cx="30132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7170840" y="3666960"/>
              <a:ext cx="1798560" cy="1316160"/>
              <a:chOff x="7170840" y="3666960"/>
              <a:chExt cx="1798560" cy="1316160"/>
            </a:xfrm>
          </p:grpSpPr>
          <p:sp>
            <p:nvSpPr>
              <p:cNvPr id="1012" name=""/>
              <p:cNvSpPr/>
              <p:nvPr/>
            </p:nvSpPr>
            <p:spPr>
              <a:xfrm>
                <a:off x="7170840" y="42116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183440" y="36669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170840" y="4041720"/>
                <a:ext cx="96336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70720" y="37609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132760" y="4111560"/>
                <a:ext cx="82404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253360" y="4194000"/>
                <a:ext cx="57636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209080" y="3930480"/>
                <a:ext cx="55692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107200" y="39924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986600" y="40417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877160" y="40989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2" name=""/>
          <p:cNvGrpSpPr/>
          <p:nvPr/>
        </p:nvGrpSpPr>
        <p:grpSpPr>
          <a:xfrm>
            <a:off x="6043680" y="5267160"/>
            <a:ext cx="2106720" cy="1316160"/>
            <a:chOff x="6043680" y="5267160"/>
            <a:chExt cx="2106720" cy="1316160"/>
          </a:xfrm>
        </p:grpSpPr>
        <p:grpSp>
          <p:nvGrpSpPr>
            <p:cNvPr id="1023" name=""/>
            <p:cNvGrpSpPr/>
            <p:nvPr/>
          </p:nvGrpSpPr>
          <p:grpSpPr>
            <a:xfrm>
              <a:off x="6043680" y="6173640"/>
              <a:ext cx="1657440" cy="265320"/>
              <a:chOff x="6043680" y="6173640"/>
              <a:chExt cx="1657440" cy="265320"/>
            </a:xfrm>
          </p:grpSpPr>
          <p:grpSp>
            <p:nvGrpSpPr>
              <p:cNvPr id="1024" name=""/>
              <p:cNvGrpSpPr/>
              <p:nvPr/>
            </p:nvGrpSpPr>
            <p:grpSpPr>
              <a:xfrm>
                <a:off x="6043680" y="6173640"/>
                <a:ext cx="1657440" cy="265320"/>
                <a:chOff x="6043680" y="6173640"/>
                <a:chExt cx="1657440" cy="26532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6043680" y="62406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051600" y="61736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068880" y="6280200"/>
                  <a:ext cx="131472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>
                <a:off x="7381800" y="6230880"/>
                <a:ext cx="30168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6351480" y="5267160"/>
              <a:ext cx="1798920" cy="1316160"/>
              <a:chOff x="6351480" y="5267160"/>
              <a:chExt cx="1798920" cy="1316160"/>
            </a:xfrm>
          </p:grpSpPr>
          <p:sp>
            <p:nvSpPr>
              <p:cNvPr id="1030" name=""/>
              <p:cNvSpPr/>
              <p:nvPr/>
            </p:nvSpPr>
            <p:spPr>
              <a:xfrm>
                <a:off x="6351480" y="58118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364440" y="52671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351480" y="5641920"/>
                <a:ext cx="96372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651720" y="53611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313760" y="5711760"/>
                <a:ext cx="82368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34360" y="5794200"/>
                <a:ext cx="57600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389720" y="5530680"/>
                <a:ext cx="55728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288200" y="55926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67600" y="56419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58160" y="56991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0" name=""/>
          <p:cNvSpPr/>
          <p:nvPr/>
        </p:nvSpPr>
        <p:spPr>
          <a:xfrm>
            <a:off x="5786280" y="4818240"/>
            <a:ext cx="1144800" cy="466560"/>
          </a:xfrm>
          <a:custGeom>
            <a:avLst/>
            <a:gdLst/>
            <a:ahLst/>
            <a:rect l="l" t="t" r="r" b="b"/>
            <a:pathLst>
              <a:path w="721" h="294">
                <a:moveTo>
                  <a:pt x="0" y="0"/>
                </a:moveTo>
                <a:lnTo>
                  <a:pt x="247" y="39"/>
                </a:lnTo>
                <a:lnTo>
                  <a:pt x="370" y="193"/>
                </a:lnTo>
                <a:lnTo>
                  <a:pt x="720" y="262"/>
                </a:lnTo>
                <a:lnTo>
                  <a:pt x="710" y="293"/>
                </a:lnTo>
                <a:lnTo>
                  <a:pt x="298" y="208"/>
                </a:lnTo>
                <a:lnTo>
                  <a:pt x="226" y="62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472000" y="1657440"/>
            <a:ext cx="1273320" cy="3173400"/>
          </a:xfrm>
          <a:custGeom>
            <a:avLst/>
            <a:gdLst/>
            <a:ahLst/>
            <a:rect l="l" t="t" r="r" b="b"/>
            <a:pathLst>
              <a:path w="802" h="1999">
                <a:moveTo>
                  <a:pt x="189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801" y="1035"/>
                </a:lnTo>
              </a:path>
            </a:pathLst>
          </a:custGeom>
          <a:noFill/>
          <a:ln cap="rnd"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510160" y="1609560"/>
            <a:ext cx="1158840" cy="3173400"/>
          </a:xfrm>
          <a:custGeom>
            <a:avLst/>
            <a:gdLst/>
            <a:ahLst/>
            <a:rect l="l" t="t" r="r" b="b"/>
            <a:pathLst>
              <a:path w="730" h="1999">
                <a:moveTo>
                  <a:pt x="171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729" y="1059"/>
                </a:lnTo>
              </a:path>
            </a:pathLst>
          </a:custGeom>
          <a:noFill/>
          <a:ln cap="rnd" w="127080">
            <a:solidFill>
              <a:srgbClr val="b1b1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26160" y="3225960"/>
            <a:ext cx="216000" cy="125280"/>
          </a:xfrm>
          <a:prstGeom prst="roundRect">
            <a:avLst>
              <a:gd name="adj" fmla="val 22574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773680" y="4721400"/>
            <a:ext cx="173160" cy="149040"/>
          </a:xfrm>
          <a:prstGeom prst="roundRect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916600" y="4757760"/>
            <a:ext cx="835200" cy="563400"/>
          </a:xfrm>
          <a:custGeom>
            <a:avLst/>
            <a:gdLst/>
            <a:ahLst/>
            <a:rect l="l" t="t" r="r" b="b"/>
            <a:pathLst>
              <a:path w="526" h="355">
                <a:moveTo>
                  <a:pt x="0" y="0"/>
                </a:moveTo>
                <a:lnTo>
                  <a:pt x="124" y="185"/>
                </a:lnTo>
                <a:lnTo>
                  <a:pt x="309" y="185"/>
                </a:lnTo>
                <a:lnTo>
                  <a:pt x="484" y="354"/>
                </a:lnTo>
                <a:lnTo>
                  <a:pt x="525" y="346"/>
                </a:lnTo>
                <a:lnTo>
                  <a:pt x="340" y="146"/>
                </a:lnTo>
                <a:lnTo>
                  <a:pt x="154" y="14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757840" y="4808520"/>
            <a:ext cx="754200" cy="649440"/>
          </a:xfrm>
          <a:custGeom>
            <a:avLst/>
            <a:gdLst/>
            <a:ahLst/>
            <a:rect l="l" t="t" r="r" b="b"/>
            <a:pathLst>
              <a:path w="475" h="409">
                <a:moveTo>
                  <a:pt x="0" y="0"/>
                </a:moveTo>
                <a:lnTo>
                  <a:pt x="163" y="54"/>
                </a:lnTo>
                <a:lnTo>
                  <a:pt x="244" y="268"/>
                </a:lnTo>
                <a:lnTo>
                  <a:pt x="474" y="365"/>
                </a:lnTo>
                <a:lnTo>
                  <a:pt x="467" y="408"/>
                </a:lnTo>
                <a:lnTo>
                  <a:pt x="196" y="290"/>
                </a:lnTo>
                <a:lnTo>
                  <a:pt x="149" y="8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43520" y="4724280"/>
            <a:ext cx="549360" cy="782640"/>
          </a:xfrm>
          <a:custGeom>
            <a:avLst/>
            <a:gdLst/>
            <a:ahLst/>
            <a:rect l="l" t="t" r="r" b="b"/>
            <a:pathLst>
              <a:path w="346" h="493">
                <a:moveTo>
                  <a:pt x="0" y="0"/>
                </a:moveTo>
                <a:lnTo>
                  <a:pt x="81" y="257"/>
                </a:lnTo>
                <a:lnTo>
                  <a:pt x="203" y="257"/>
                </a:lnTo>
                <a:lnTo>
                  <a:pt x="318" y="492"/>
                </a:lnTo>
                <a:lnTo>
                  <a:pt x="345" y="481"/>
                </a:lnTo>
                <a:lnTo>
                  <a:pt x="223" y="203"/>
                </a:lnTo>
                <a:lnTo>
                  <a:pt x="101" y="203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977080" y="4919760"/>
            <a:ext cx="158760" cy="312480"/>
          </a:xfrm>
          <a:custGeom>
            <a:avLst/>
            <a:gdLst/>
            <a:ahLst/>
            <a:rect l="l" t="t" r="r" b="b"/>
            <a:pathLst>
              <a:path w="100" h="197">
                <a:moveTo>
                  <a:pt x="0" y="0"/>
                </a:moveTo>
                <a:lnTo>
                  <a:pt x="44" y="196"/>
                </a:lnTo>
                <a:lnTo>
                  <a:pt x="99" y="18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643800" y="3273480"/>
            <a:ext cx="1130040" cy="490320"/>
          </a:xfrm>
          <a:custGeom>
            <a:avLst/>
            <a:gdLst/>
            <a:ahLst/>
            <a:rect l="l" t="t" r="r" b="b"/>
            <a:pathLst>
              <a:path w="712" h="309">
                <a:moveTo>
                  <a:pt x="0" y="0"/>
                </a:moveTo>
                <a:lnTo>
                  <a:pt x="244" y="41"/>
                </a:lnTo>
                <a:lnTo>
                  <a:pt x="366" y="203"/>
                </a:lnTo>
                <a:lnTo>
                  <a:pt x="711" y="276"/>
                </a:lnTo>
                <a:lnTo>
                  <a:pt x="701" y="308"/>
                </a:lnTo>
                <a:lnTo>
                  <a:pt x="295" y="219"/>
                </a:lnTo>
                <a:lnTo>
                  <a:pt x="223" y="6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772320" y="3209760"/>
            <a:ext cx="824040" cy="592200"/>
          </a:xfrm>
          <a:custGeom>
            <a:avLst/>
            <a:gdLst/>
            <a:ahLst/>
            <a:rect l="l" t="t" r="r" b="b"/>
            <a:pathLst>
              <a:path w="519" h="373">
                <a:moveTo>
                  <a:pt x="0" y="0"/>
                </a:moveTo>
                <a:lnTo>
                  <a:pt x="122" y="194"/>
                </a:lnTo>
                <a:lnTo>
                  <a:pt x="305" y="194"/>
                </a:lnTo>
                <a:lnTo>
                  <a:pt x="477" y="372"/>
                </a:lnTo>
                <a:lnTo>
                  <a:pt x="518" y="364"/>
                </a:lnTo>
                <a:lnTo>
                  <a:pt x="335" y="154"/>
                </a:lnTo>
                <a:lnTo>
                  <a:pt x="152" y="15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031160" y="3378240"/>
            <a:ext cx="179280" cy="231840"/>
          </a:xfrm>
          <a:custGeom>
            <a:avLst/>
            <a:gdLst/>
            <a:ahLst/>
            <a:rect l="l" t="t" r="r" b="b"/>
            <a:pathLst>
              <a:path w="113" h="146">
                <a:moveTo>
                  <a:pt x="0" y="0"/>
                </a:moveTo>
                <a:lnTo>
                  <a:pt x="50" y="145"/>
                </a:lnTo>
                <a:lnTo>
                  <a:pt x="112" y="13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629400" y="3297240"/>
            <a:ext cx="839880" cy="596880"/>
          </a:xfrm>
          <a:custGeom>
            <a:avLst/>
            <a:gdLst/>
            <a:ahLst/>
            <a:rect l="l" t="t" r="r" b="b"/>
            <a:pathLst>
              <a:path w="529" h="376">
                <a:moveTo>
                  <a:pt x="0" y="0"/>
                </a:moveTo>
                <a:lnTo>
                  <a:pt x="181" y="49"/>
                </a:lnTo>
                <a:lnTo>
                  <a:pt x="272" y="247"/>
                </a:lnTo>
                <a:lnTo>
                  <a:pt x="528" y="336"/>
                </a:lnTo>
                <a:lnTo>
                  <a:pt x="520" y="375"/>
                </a:lnTo>
                <a:lnTo>
                  <a:pt x="219" y="266"/>
                </a:lnTo>
                <a:lnTo>
                  <a:pt x="166" y="7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724800" y="3219480"/>
            <a:ext cx="612720" cy="720720"/>
          </a:xfrm>
          <a:custGeom>
            <a:avLst/>
            <a:gdLst/>
            <a:ahLst/>
            <a:rect l="l" t="t" r="r" b="b"/>
            <a:pathLst>
              <a:path w="386" h="454">
                <a:moveTo>
                  <a:pt x="0" y="0"/>
                </a:moveTo>
                <a:lnTo>
                  <a:pt x="91" y="236"/>
                </a:lnTo>
                <a:lnTo>
                  <a:pt x="226" y="236"/>
                </a:lnTo>
                <a:lnTo>
                  <a:pt x="355" y="453"/>
                </a:lnTo>
                <a:lnTo>
                  <a:pt x="385" y="443"/>
                </a:lnTo>
                <a:lnTo>
                  <a:pt x="249" y="187"/>
                </a:lnTo>
                <a:lnTo>
                  <a:pt x="113" y="187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916680" y="3424320"/>
            <a:ext cx="133560" cy="280800"/>
          </a:xfrm>
          <a:custGeom>
            <a:avLst/>
            <a:gdLst/>
            <a:ahLst/>
            <a:rect l="l" t="t" r="r" b="b"/>
            <a:pathLst>
              <a:path w="84" h="177">
                <a:moveTo>
                  <a:pt x="0" y="0"/>
                </a:moveTo>
                <a:lnTo>
                  <a:pt x="37" y="176"/>
                </a:lnTo>
                <a:lnTo>
                  <a:pt x="83" y="16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746400" y="1981080"/>
            <a:ext cx="92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278480" y="5029200"/>
            <a:ext cx="124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nektor RJ-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38720" y="3448080"/>
            <a:ext cx="420840" cy="725400"/>
          </a:xfrm>
          <a:custGeom>
            <a:avLst/>
            <a:gdLst/>
            <a:ahLst/>
            <a:rect l="l" t="t" r="r" b="b"/>
            <a:pathLst>
              <a:path w="265" h="457">
                <a:moveTo>
                  <a:pt x="0" y="0"/>
                </a:moveTo>
                <a:lnTo>
                  <a:pt x="0" y="51"/>
                </a:lnTo>
                <a:lnTo>
                  <a:pt x="38" y="118"/>
                </a:lnTo>
                <a:lnTo>
                  <a:pt x="88" y="152"/>
                </a:lnTo>
                <a:lnTo>
                  <a:pt x="126" y="152"/>
                </a:lnTo>
                <a:lnTo>
                  <a:pt x="163" y="152"/>
                </a:lnTo>
                <a:lnTo>
                  <a:pt x="189" y="203"/>
                </a:lnTo>
                <a:lnTo>
                  <a:pt x="214" y="253"/>
                </a:lnTo>
                <a:lnTo>
                  <a:pt x="239" y="304"/>
                </a:lnTo>
                <a:lnTo>
                  <a:pt x="264" y="355"/>
                </a:lnTo>
                <a:lnTo>
                  <a:pt x="264" y="405"/>
                </a:lnTo>
                <a:lnTo>
                  <a:pt x="264" y="456"/>
                </a:lnTo>
                <a:lnTo>
                  <a:pt x="239" y="405"/>
                </a:lnTo>
                <a:lnTo>
                  <a:pt x="226" y="355"/>
                </a:lnTo>
                <a:lnTo>
                  <a:pt x="201" y="287"/>
                </a:lnTo>
                <a:lnTo>
                  <a:pt x="176" y="236"/>
                </a:lnTo>
                <a:lnTo>
                  <a:pt x="138" y="236"/>
                </a:lnTo>
                <a:lnTo>
                  <a:pt x="101" y="236"/>
                </a:lnTo>
                <a:lnTo>
                  <a:pt x="63" y="253"/>
                </a:lnTo>
                <a:lnTo>
                  <a:pt x="25" y="253"/>
                </a:lnTo>
                <a:lnTo>
                  <a:pt x="25" y="203"/>
                </a:lnTo>
                <a:lnTo>
                  <a:pt x="25" y="152"/>
                </a:lnTo>
                <a:lnTo>
                  <a:pt x="13" y="1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78680" y="49179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0" y="0"/>
                </a:moveTo>
                <a:lnTo>
                  <a:pt x="53" y="138"/>
                </a:lnTo>
                <a:lnTo>
                  <a:pt x="119" y="128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Interface C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833040" y="2120760"/>
            <a:ext cx="3738600" cy="38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0H, 240H, 280H, 2A0H, 2C0H, 340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5, IRQ 10, IRQ 11, IRQ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put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NC, UTP, atau Thick-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 memory base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 memory access chann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98320" y="1382760"/>
            <a:ext cx="30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Yang Perlu dikonfiguras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400720" y="2171880"/>
            <a:ext cx="2154240" cy="3585960"/>
          </a:xfrm>
          <a:custGeom>
            <a:avLst/>
            <a:gdLst/>
            <a:ahLst/>
            <a:rect l="l" t="t" r="r" b="b"/>
            <a:pathLst>
              <a:path w="1357" h="2259">
                <a:moveTo>
                  <a:pt x="0" y="0"/>
                </a:moveTo>
                <a:lnTo>
                  <a:pt x="1356" y="638"/>
                </a:lnTo>
                <a:lnTo>
                  <a:pt x="1356" y="2258"/>
                </a:lnTo>
                <a:lnTo>
                  <a:pt x="0" y="118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aae4b"/>
              </a:gs>
              <a:gs pos="100000">
                <a:srgbClr val="438e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389720" y="3344760"/>
            <a:ext cx="316080" cy="2605320"/>
          </a:xfrm>
          <a:custGeom>
            <a:avLst/>
            <a:gdLst/>
            <a:ahLst/>
            <a:rect l="l" t="t" r="r" b="b"/>
            <a:pathLst>
              <a:path w="199" h="1641">
                <a:moveTo>
                  <a:pt x="0" y="0"/>
                </a:moveTo>
                <a:lnTo>
                  <a:pt x="198" y="0"/>
                </a:lnTo>
                <a:lnTo>
                  <a:pt x="198" y="1394"/>
                </a:lnTo>
                <a:lnTo>
                  <a:pt x="149" y="1476"/>
                </a:lnTo>
                <a:lnTo>
                  <a:pt x="149" y="1640"/>
                </a:lnTo>
                <a:lnTo>
                  <a:pt x="50" y="1640"/>
                </a:lnTo>
                <a:lnTo>
                  <a:pt x="50" y="1476"/>
                </a:lnTo>
                <a:lnTo>
                  <a:pt x="0" y="139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527960" y="4373640"/>
            <a:ext cx="165240" cy="455400"/>
          </a:xfrm>
          <a:custGeom>
            <a:avLst/>
            <a:gdLst/>
            <a:ahLst/>
            <a:rect l="l" t="t" r="r" b="b"/>
            <a:pathLst>
              <a:path w="104" h="287">
                <a:moveTo>
                  <a:pt x="0" y="0"/>
                </a:moveTo>
                <a:lnTo>
                  <a:pt x="0" y="286"/>
                </a:lnTo>
                <a:lnTo>
                  <a:pt x="0" y="286"/>
                </a:lnTo>
                <a:lnTo>
                  <a:pt x="52" y="286"/>
                </a:lnTo>
                <a:lnTo>
                  <a:pt x="103" y="229"/>
                </a:lnTo>
                <a:lnTo>
                  <a:pt x="103" y="57"/>
                </a:lnTo>
                <a:lnTo>
                  <a:pt x="52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b1b1b1"/>
            </a:solidFill>
            <a:round/>
          </a:ln>
          <a:effectLst>
            <a:outerShdw dist="28496" dir="12374481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462800" y="5114880"/>
            <a:ext cx="212760" cy="20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ffffff"/>
            </a:solidFill>
            <a:miter/>
          </a:ln>
          <a:effectLst>
            <a:outerShdw dist="53966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7527600" y="5202000"/>
            <a:ext cx="9684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24560" y="4284720"/>
            <a:ext cx="68400" cy="544320"/>
          </a:xfrm>
          <a:custGeom>
            <a:avLst/>
            <a:gdLst/>
            <a:ahLst/>
            <a:rect l="l" t="t" r="r" b="b"/>
            <a:pathLst>
              <a:path w="43" h="343">
                <a:moveTo>
                  <a:pt x="42" y="13"/>
                </a:moveTo>
                <a:lnTo>
                  <a:pt x="0" y="0"/>
                </a:lnTo>
                <a:lnTo>
                  <a:pt x="0" y="317"/>
                </a:lnTo>
                <a:lnTo>
                  <a:pt x="42" y="342"/>
                </a:lnTo>
                <a:lnTo>
                  <a:pt x="42" y="13"/>
                </a:lnTo>
              </a:path>
            </a:pathLst>
          </a:cu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218280" y="4714920"/>
            <a:ext cx="1066680" cy="1081080"/>
          </a:xfrm>
          <a:custGeom>
            <a:avLst/>
            <a:gdLst/>
            <a:ahLst/>
            <a:rect l="l" t="t" r="r" b="b"/>
            <a:pathLst>
              <a:path w="672" h="681">
                <a:moveTo>
                  <a:pt x="0" y="0"/>
                </a:moveTo>
                <a:lnTo>
                  <a:pt x="0" y="107"/>
                </a:lnTo>
                <a:lnTo>
                  <a:pt x="671" y="680"/>
                </a:lnTo>
                <a:lnTo>
                  <a:pt x="671" y="52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478640" y="3782880"/>
            <a:ext cx="158760" cy="28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70640" y="4167360"/>
            <a:ext cx="538200" cy="623880"/>
          </a:xfrm>
          <a:custGeom>
            <a:avLst/>
            <a:gdLst/>
            <a:ahLst/>
            <a:rect l="l" t="t" r="r" b="b"/>
            <a:pathLst>
              <a:path w="339" h="393">
                <a:moveTo>
                  <a:pt x="0" y="0"/>
                </a:moveTo>
                <a:lnTo>
                  <a:pt x="0" y="92"/>
                </a:lnTo>
                <a:lnTo>
                  <a:pt x="338" y="392"/>
                </a:lnTo>
                <a:lnTo>
                  <a:pt x="338" y="286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704720" y="3809880"/>
            <a:ext cx="74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P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726680" y="4386240"/>
            <a:ext cx="1150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ether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704360" y="5119560"/>
            <a:ext cx="75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440480" y="3540240"/>
            <a:ext cx="82800" cy="8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c012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583400" y="3530520"/>
            <a:ext cx="82800" cy="82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610240" y="4057560"/>
            <a:ext cx="123840" cy="66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53280" y="4529160"/>
            <a:ext cx="20952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977080" y="2681280"/>
            <a:ext cx="2095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477120" y="2952720"/>
            <a:ext cx="26676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070400" y="2519280"/>
            <a:ext cx="972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37400" y="5214960"/>
            <a:ext cx="809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63240" y="4514760"/>
            <a:ext cx="1057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ma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95880" y="4343400"/>
            <a:ext cx="109800" cy="52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107760" y="1843200"/>
            <a:ext cx="1242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ed mem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006960" y="4211640"/>
            <a:ext cx="787680" cy="544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222960" y="4754520"/>
            <a:ext cx="15552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08240" y="2725560"/>
            <a:ext cx="327240" cy="201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5307120" y="4084560"/>
            <a:ext cx="301680" cy="441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6093000" y="2441160"/>
            <a:ext cx="201600" cy="227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91520" y="3352680"/>
            <a:ext cx="501480" cy="96840"/>
          </a:xfrm>
          <a:custGeom>
            <a:avLst/>
            <a:gdLst/>
            <a:ahLst/>
            <a:rect l="l" t="t" r="r" b="b"/>
            <a:pathLst>
              <a:path w="316" h="61">
                <a:moveTo>
                  <a:pt x="0" y="0"/>
                </a:moveTo>
                <a:lnTo>
                  <a:pt x="105" y="60"/>
                </a:lnTo>
                <a:lnTo>
                  <a:pt x="177" y="60"/>
                </a:lnTo>
                <a:lnTo>
                  <a:pt x="120" y="30"/>
                </a:lnTo>
                <a:lnTo>
                  <a:pt x="180" y="30"/>
                </a:lnTo>
                <a:lnTo>
                  <a:pt x="234" y="60"/>
                </a:lnTo>
                <a:lnTo>
                  <a:pt x="315" y="60"/>
                </a:lnTo>
                <a:lnTo>
                  <a:pt x="19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el IRQ pada P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10448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A/VGA c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 Posisi Jum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875160" y="1994040"/>
            <a:ext cx="245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Jumper I/O addr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1522440" y="2835360"/>
            <a:ext cx="173160" cy="388800"/>
            <a:chOff x="1522440" y="2835360"/>
            <a:chExt cx="173160" cy="388800"/>
          </a:xfrm>
        </p:grpSpPr>
        <p:sp>
          <p:nvSpPr>
            <p:cNvPr id="1096" name=""/>
            <p:cNvSpPr/>
            <p:nvPr/>
          </p:nvSpPr>
          <p:spPr>
            <a:xfrm>
              <a:off x="1522440" y="283536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00200" y="2913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0020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289160" y="2835360"/>
            <a:ext cx="172800" cy="388800"/>
            <a:chOff x="1289160" y="2835360"/>
            <a:chExt cx="172800" cy="388800"/>
          </a:xfrm>
        </p:grpSpPr>
        <p:sp>
          <p:nvSpPr>
            <p:cNvPr id="1100" name=""/>
            <p:cNvSpPr/>
            <p:nvPr/>
          </p:nvSpPr>
          <p:spPr>
            <a:xfrm>
              <a:off x="1289160" y="2835360"/>
              <a:ext cx="17280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66920" y="291312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66920" y="309888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744560" y="2835360"/>
            <a:ext cx="173160" cy="388800"/>
            <a:chOff x="1744560" y="2835360"/>
            <a:chExt cx="173160" cy="388800"/>
          </a:xfrm>
        </p:grpSpPr>
        <p:sp>
          <p:nvSpPr>
            <p:cNvPr id="1104" name=""/>
            <p:cNvSpPr/>
            <p:nvPr/>
          </p:nvSpPr>
          <p:spPr>
            <a:xfrm>
              <a:off x="1744560" y="283536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22320" y="2913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2232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522440" y="3448080"/>
            <a:ext cx="173160" cy="388800"/>
            <a:chOff x="1522440" y="3448080"/>
            <a:chExt cx="173160" cy="388800"/>
          </a:xfrm>
        </p:grpSpPr>
        <p:sp>
          <p:nvSpPr>
            <p:cNvPr id="1108" name=""/>
            <p:cNvSpPr/>
            <p:nvPr/>
          </p:nvSpPr>
          <p:spPr>
            <a:xfrm>
              <a:off x="1522440" y="344808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600200" y="352440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0020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1744560" y="3448080"/>
            <a:ext cx="173160" cy="388800"/>
            <a:chOff x="1744560" y="3448080"/>
            <a:chExt cx="173160" cy="388800"/>
          </a:xfrm>
        </p:grpSpPr>
        <p:sp>
          <p:nvSpPr>
            <p:cNvPr id="1112" name=""/>
            <p:cNvSpPr/>
            <p:nvPr/>
          </p:nvSpPr>
          <p:spPr>
            <a:xfrm>
              <a:off x="1744560" y="3448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822320" y="3524400"/>
              <a:ext cx="1764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2232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2073600" y="28098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0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073600" y="3422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2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1300320" y="3448080"/>
            <a:ext cx="172800" cy="388800"/>
            <a:chOff x="1300320" y="3448080"/>
            <a:chExt cx="172800" cy="388800"/>
          </a:xfrm>
        </p:grpSpPr>
        <p:sp>
          <p:nvSpPr>
            <p:cNvPr id="1118" name=""/>
            <p:cNvSpPr/>
            <p:nvPr/>
          </p:nvSpPr>
          <p:spPr>
            <a:xfrm>
              <a:off x="1300320" y="3448080"/>
              <a:ext cx="17280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8080" y="3524400"/>
              <a:ext cx="1728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78080" y="3710160"/>
              <a:ext cx="1728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1500120" y="4060800"/>
            <a:ext cx="173160" cy="387360"/>
            <a:chOff x="1500120" y="4060800"/>
            <a:chExt cx="173160" cy="387360"/>
          </a:xfrm>
        </p:grpSpPr>
        <p:sp>
          <p:nvSpPr>
            <p:cNvPr id="1122" name=""/>
            <p:cNvSpPr/>
            <p:nvPr/>
          </p:nvSpPr>
          <p:spPr>
            <a:xfrm>
              <a:off x="150012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7788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7788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1255680" y="4060800"/>
            <a:ext cx="173160" cy="387360"/>
            <a:chOff x="1255680" y="4060800"/>
            <a:chExt cx="173160" cy="387360"/>
          </a:xfrm>
        </p:grpSpPr>
        <p:sp>
          <p:nvSpPr>
            <p:cNvPr id="1126" name=""/>
            <p:cNvSpPr/>
            <p:nvPr/>
          </p:nvSpPr>
          <p:spPr>
            <a:xfrm>
              <a:off x="125568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33344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33344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1744560" y="4060800"/>
            <a:ext cx="173160" cy="387360"/>
            <a:chOff x="1744560" y="4060800"/>
            <a:chExt cx="173160" cy="387360"/>
          </a:xfrm>
        </p:grpSpPr>
        <p:sp>
          <p:nvSpPr>
            <p:cNvPr id="1130" name=""/>
            <p:cNvSpPr/>
            <p:nvPr/>
          </p:nvSpPr>
          <p:spPr>
            <a:xfrm>
              <a:off x="1744560" y="4060800"/>
              <a:ext cx="173160" cy="387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22320" y="4137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2232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2073600" y="40356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4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744560" y="4672080"/>
            <a:ext cx="173160" cy="388800"/>
            <a:chOff x="1744560" y="4672080"/>
            <a:chExt cx="173160" cy="388800"/>
          </a:xfrm>
        </p:grpSpPr>
        <p:sp>
          <p:nvSpPr>
            <p:cNvPr id="1135" name=""/>
            <p:cNvSpPr/>
            <p:nvPr/>
          </p:nvSpPr>
          <p:spPr>
            <a:xfrm>
              <a:off x="174456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2232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2232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2073600" y="4646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6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1500120" y="4672080"/>
            <a:ext cx="173160" cy="388800"/>
            <a:chOff x="1500120" y="4672080"/>
            <a:chExt cx="173160" cy="388800"/>
          </a:xfrm>
        </p:grpSpPr>
        <p:sp>
          <p:nvSpPr>
            <p:cNvPr id="1140" name=""/>
            <p:cNvSpPr/>
            <p:nvPr/>
          </p:nvSpPr>
          <p:spPr>
            <a:xfrm>
              <a:off x="150012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7788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7788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255680" y="4672080"/>
            <a:ext cx="173160" cy="388800"/>
            <a:chOff x="1255680" y="4672080"/>
            <a:chExt cx="173160" cy="388800"/>
          </a:xfrm>
        </p:grpSpPr>
        <p:sp>
          <p:nvSpPr>
            <p:cNvPr id="1144" name=""/>
            <p:cNvSpPr/>
            <p:nvPr/>
          </p:nvSpPr>
          <p:spPr>
            <a:xfrm>
              <a:off x="125568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33344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3344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5131800" y="1995480"/>
            <a:ext cx="2104200" cy="3143160"/>
            <a:chOff x="5131800" y="1995480"/>
            <a:chExt cx="2104200" cy="3143160"/>
          </a:xfrm>
        </p:grpSpPr>
        <p:sp>
          <p:nvSpPr>
            <p:cNvPr id="1148" name=""/>
            <p:cNvSpPr/>
            <p:nvPr/>
          </p:nvSpPr>
          <p:spPr>
            <a:xfrm>
              <a:off x="5131800" y="1995480"/>
              <a:ext cx="209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Jumper IRQ lev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5819760" y="2833560"/>
              <a:ext cx="165240" cy="400320"/>
              <a:chOff x="5819760" y="2833560"/>
              <a:chExt cx="165240" cy="400320"/>
            </a:xfrm>
          </p:grpSpPr>
          <p:sp>
            <p:nvSpPr>
              <p:cNvPr id="1150" name=""/>
              <p:cNvSpPr/>
              <p:nvPr/>
            </p:nvSpPr>
            <p:spPr>
              <a:xfrm>
                <a:off x="5819760" y="2833560"/>
                <a:ext cx="165240" cy="4003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94280" y="291312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94280" y="310356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6048360" y="2833560"/>
              <a:ext cx="165240" cy="400320"/>
              <a:chOff x="6048360" y="2833560"/>
              <a:chExt cx="165240" cy="400320"/>
            </a:xfrm>
          </p:grpSpPr>
          <p:sp>
            <p:nvSpPr>
              <p:cNvPr id="1154" name=""/>
              <p:cNvSpPr/>
              <p:nvPr/>
            </p:nvSpPr>
            <p:spPr>
              <a:xfrm>
                <a:off x="6048360" y="2833560"/>
                <a:ext cx="165240" cy="400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22880" y="291312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122880" y="310356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6373440" y="280980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5594400" y="2846520"/>
              <a:ext cx="164880" cy="398160"/>
              <a:chOff x="5594400" y="2846520"/>
              <a:chExt cx="164880" cy="398160"/>
            </a:xfrm>
          </p:grpSpPr>
          <p:sp>
            <p:nvSpPr>
              <p:cNvPr id="1159" name=""/>
              <p:cNvSpPr/>
              <p:nvPr/>
            </p:nvSpPr>
            <p:spPr>
              <a:xfrm>
                <a:off x="5594400" y="284652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66892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66892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5370480" y="2846520"/>
              <a:ext cx="165240" cy="398160"/>
              <a:chOff x="5370480" y="2846520"/>
              <a:chExt cx="165240" cy="398160"/>
            </a:xfrm>
          </p:grpSpPr>
          <p:sp>
            <p:nvSpPr>
              <p:cNvPr id="1163" name=""/>
              <p:cNvSpPr/>
              <p:nvPr/>
            </p:nvSpPr>
            <p:spPr>
              <a:xfrm>
                <a:off x="5370480" y="284652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4500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4500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075360" y="3467160"/>
              <a:ext cx="165240" cy="399960"/>
              <a:chOff x="6075360" y="3467160"/>
              <a:chExt cx="165240" cy="399960"/>
            </a:xfrm>
          </p:grpSpPr>
          <p:sp>
            <p:nvSpPr>
              <p:cNvPr id="1167" name=""/>
              <p:cNvSpPr/>
              <p:nvPr/>
            </p:nvSpPr>
            <p:spPr>
              <a:xfrm>
                <a:off x="6075360" y="3467160"/>
                <a:ext cx="165240" cy="39996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149880" y="354636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4988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5824440" y="3467160"/>
              <a:ext cx="165240" cy="399960"/>
              <a:chOff x="5824440" y="3467160"/>
              <a:chExt cx="165240" cy="399960"/>
            </a:xfrm>
          </p:grpSpPr>
          <p:sp>
            <p:nvSpPr>
              <p:cNvPr id="1171" name=""/>
              <p:cNvSpPr/>
              <p:nvPr/>
            </p:nvSpPr>
            <p:spPr>
              <a:xfrm>
                <a:off x="5824440" y="3467160"/>
                <a:ext cx="165240" cy="3999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99320" y="354636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9932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4" name=""/>
            <p:cNvSpPr/>
            <p:nvPr/>
          </p:nvSpPr>
          <p:spPr>
            <a:xfrm>
              <a:off x="6357600" y="342576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5" name=""/>
            <p:cNvGrpSpPr/>
            <p:nvPr/>
          </p:nvGrpSpPr>
          <p:grpSpPr>
            <a:xfrm>
              <a:off x="5578560" y="3462480"/>
              <a:ext cx="164880" cy="398160"/>
              <a:chOff x="5578560" y="3462480"/>
              <a:chExt cx="164880" cy="398160"/>
            </a:xfrm>
          </p:grpSpPr>
          <p:sp>
            <p:nvSpPr>
              <p:cNvPr id="1176" name=""/>
              <p:cNvSpPr/>
              <p:nvPr/>
            </p:nvSpPr>
            <p:spPr>
              <a:xfrm>
                <a:off x="5578560" y="346248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653080" y="3540240"/>
                <a:ext cx="1584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653080" y="37306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5354640" y="3462480"/>
              <a:ext cx="165240" cy="398160"/>
              <a:chOff x="5354640" y="3462480"/>
              <a:chExt cx="165240" cy="398160"/>
            </a:xfrm>
          </p:grpSpPr>
          <p:sp>
            <p:nvSpPr>
              <p:cNvPr id="1180" name=""/>
              <p:cNvSpPr/>
              <p:nvPr/>
            </p:nvSpPr>
            <p:spPr>
              <a:xfrm>
                <a:off x="5354640" y="346248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429160" y="3540240"/>
                <a:ext cx="1440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429160" y="373068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5348160" y="4095720"/>
              <a:ext cx="165240" cy="398520"/>
              <a:chOff x="5348160" y="4095720"/>
              <a:chExt cx="165240" cy="398520"/>
            </a:xfrm>
          </p:grpSpPr>
          <p:sp>
            <p:nvSpPr>
              <p:cNvPr id="1184" name=""/>
              <p:cNvSpPr/>
              <p:nvPr/>
            </p:nvSpPr>
            <p:spPr>
              <a:xfrm>
                <a:off x="5348160" y="4095720"/>
                <a:ext cx="16524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423040" y="41734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23040" y="436392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5835600" y="4095720"/>
              <a:ext cx="165240" cy="398520"/>
              <a:chOff x="5835600" y="4095720"/>
              <a:chExt cx="165240" cy="398520"/>
            </a:xfrm>
          </p:grpSpPr>
          <p:sp>
            <p:nvSpPr>
              <p:cNvPr id="1188" name=""/>
              <p:cNvSpPr/>
              <p:nvPr/>
            </p:nvSpPr>
            <p:spPr>
              <a:xfrm>
                <a:off x="5835600" y="40957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910120" y="4173480"/>
                <a:ext cx="1440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10120" y="436392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6368760" y="407052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5589720" y="4106880"/>
              <a:ext cx="164880" cy="398520"/>
              <a:chOff x="5589720" y="4106880"/>
              <a:chExt cx="164880" cy="398520"/>
            </a:xfrm>
          </p:grpSpPr>
          <p:sp>
            <p:nvSpPr>
              <p:cNvPr id="1193" name=""/>
              <p:cNvSpPr/>
              <p:nvPr/>
            </p:nvSpPr>
            <p:spPr>
              <a:xfrm>
                <a:off x="55897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6642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6642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6086520" y="4106880"/>
              <a:ext cx="164880" cy="398520"/>
              <a:chOff x="6086520" y="4106880"/>
              <a:chExt cx="164880" cy="398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60865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610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1610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5605560" y="4740120"/>
              <a:ext cx="164880" cy="398520"/>
              <a:chOff x="5605560" y="4740120"/>
              <a:chExt cx="164880" cy="398520"/>
            </a:xfrm>
          </p:grpSpPr>
          <p:sp>
            <p:nvSpPr>
              <p:cNvPr id="1201" name=""/>
              <p:cNvSpPr/>
              <p:nvPr/>
            </p:nvSpPr>
            <p:spPr>
              <a:xfrm>
                <a:off x="5605560" y="4740120"/>
                <a:ext cx="16488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680080" y="481824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680080" y="5008680"/>
                <a:ext cx="1584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5835600" y="4740120"/>
              <a:ext cx="165240" cy="398520"/>
              <a:chOff x="5835600" y="4740120"/>
              <a:chExt cx="165240" cy="398520"/>
            </a:xfrm>
          </p:grpSpPr>
          <p:sp>
            <p:nvSpPr>
              <p:cNvPr id="1205" name=""/>
              <p:cNvSpPr/>
              <p:nvPr/>
            </p:nvSpPr>
            <p:spPr>
              <a:xfrm>
                <a:off x="5835600" y="47401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910120" y="4818240"/>
                <a:ext cx="1440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910120" y="5008680"/>
                <a:ext cx="1440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6368760" y="469908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5354640" y="4734000"/>
              <a:ext cx="165240" cy="398520"/>
              <a:chOff x="5354640" y="4734000"/>
              <a:chExt cx="165240" cy="398520"/>
            </a:xfrm>
          </p:grpSpPr>
          <p:sp>
            <p:nvSpPr>
              <p:cNvPr id="1210" name=""/>
              <p:cNvSpPr/>
              <p:nvPr/>
            </p:nvSpPr>
            <p:spPr>
              <a:xfrm>
                <a:off x="5354640" y="473400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429160" y="4813200"/>
                <a:ext cx="1440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429160" y="5003640"/>
                <a:ext cx="1440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6086520" y="4734000"/>
              <a:ext cx="164880" cy="398520"/>
              <a:chOff x="6086520" y="4734000"/>
              <a:chExt cx="164880" cy="398520"/>
            </a:xfrm>
          </p:grpSpPr>
          <p:sp>
            <p:nvSpPr>
              <p:cNvPr id="1214" name=""/>
              <p:cNvSpPr/>
              <p:nvPr/>
            </p:nvSpPr>
            <p:spPr>
              <a:xfrm>
                <a:off x="6086520" y="473400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161040" y="481320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161040" y="500364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1574640" y="5921280"/>
            <a:ext cx="173160" cy="389160"/>
            <a:chOff x="1574640" y="5921280"/>
            <a:chExt cx="173160" cy="389160"/>
          </a:xfrm>
        </p:grpSpPr>
        <p:sp>
          <p:nvSpPr>
            <p:cNvPr id="1218" name=""/>
            <p:cNvSpPr/>
            <p:nvPr/>
          </p:nvSpPr>
          <p:spPr>
            <a:xfrm>
              <a:off x="1574640" y="5921280"/>
              <a:ext cx="173160" cy="3891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652760" y="599904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652760" y="618480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1833840" y="5924520"/>
            <a:ext cx="146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tut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5707080" y="5940360"/>
            <a:ext cx="173160" cy="389160"/>
            <a:chOff x="5707080" y="5940360"/>
            <a:chExt cx="173160" cy="389160"/>
          </a:xfrm>
        </p:grpSpPr>
        <p:sp>
          <p:nvSpPr>
            <p:cNvPr id="1223" name=""/>
            <p:cNvSpPr/>
            <p:nvPr/>
          </p:nvSpPr>
          <p:spPr>
            <a:xfrm>
              <a:off x="5707080" y="5940360"/>
              <a:ext cx="173160" cy="389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4840" y="6018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784840" y="6203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6100200" y="5981760"/>
            <a:ext cx="1456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bu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xt is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in Really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Unconfigured 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78280" y="1720800"/>
            <a:ext cx="3187440" cy="4025880"/>
            <a:chOff x="2978280" y="1720800"/>
            <a:chExt cx="3187440" cy="4025880"/>
          </a:xfrm>
        </p:grpSpPr>
        <p:grpSp>
          <p:nvGrpSpPr>
            <p:cNvPr id="73" name=""/>
            <p:cNvGrpSpPr/>
            <p:nvPr/>
          </p:nvGrpSpPr>
          <p:grpSpPr>
            <a:xfrm>
              <a:off x="2978280" y="1720800"/>
              <a:ext cx="3187440" cy="3448080"/>
              <a:chOff x="2978280" y="1720800"/>
              <a:chExt cx="3187440" cy="344808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2978280" y="1720800"/>
                <a:ext cx="3187440" cy="2873520"/>
                <a:chOff x="2978280" y="1720800"/>
                <a:chExt cx="3187440" cy="2873520"/>
              </a:xfrm>
            </p:grpSpPr>
            <p:grpSp>
              <p:nvGrpSpPr>
                <p:cNvPr id="75" name=""/>
                <p:cNvGrpSpPr/>
                <p:nvPr/>
              </p:nvGrpSpPr>
              <p:grpSpPr>
                <a:xfrm>
                  <a:off x="2978280" y="1720800"/>
                  <a:ext cx="3187440" cy="2295720"/>
                  <a:chOff x="2978280" y="1720800"/>
                  <a:chExt cx="3187440" cy="2295720"/>
                </a:xfrm>
              </p:grpSpPr>
              <p:grpSp>
                <p:nvGrpSpPr>
                  <p:cNvPr id="76" name=""/>
                  <p:cNvGrpSpPr/>
                  <p:nvPr/>
                </p:nvGrpSpPr>
                <p:grpSpPr>
                  <a:xfrm>
                    <a:off x="2978280" y="1720800"/>
                    <a:ext cx="3187440" cy="1717560"/>
                    <a:chOff x="2978280" y="1720800"/>
                    <a:chExt cx="3187440" cy="1717560"/>
                  </a:xfrm>
                </p:grpSpPr>
                <p:grpSp>
                  <p:nvGrpSpPr>
                    <p:cNvPr id="77" name=""/>
                    <p:cNvGrpSpPr/>
                    <p:nvPr/>
                  </p:nvGrpSpPr>
                  <p:grpSpPr>
                    <a:xfrm>
                      <a:off x="2978280" y="1720800"/>
                      <a:ext cx="3187440" cy="1139760"/>
                      <a:chOff x="2978280" y="1720800"/>
                      <a:chExt cx="3187440" cy="1139760"/>
                    </a:xfrm>
                  </p:grpSpPr>
                  <p:sp>
                    <p:nvSpPr>
                      <p:cNvPr id="78" name=""/>
                      <p:cNvSpPr/>
                      <p:nvPr/>
                    </p:nvSpPr>
                    <p:spPr>
                      <a:xfrm>
                        <a:off x="2978280" y="1720800"/>
                        <a:ext cx="3187440" cy="5652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2978280" y="2298600"/>
                        <a:ext cx="3187440" cy="5619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2978280" y="2873520"/>
                      <a:ext cx="3187440" cy="5648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0c900"/>
                        </a:gs>
                        <a:gs pos="100000">
                          <a:srgbClr val="4ca000"/>
                        </a:gs>
                      </a:gsLst>
                      <a:lin ang="5400000"/>
                    </a:gra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" name=""/>
                  <p:cNvSpPr/>
                  <p:nvPr/>
                </p:nvSpPr>
                <p:spPr>
                  <a:xfrm>
                    <a:off x="2978280" y="3451320"/>
                    <a:ext cx="3187440" cy="565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0c900"/>
                      </a:gs>
                      <a:gs pos="100000">
                        <a:srgbClr val="4ca000"/>
                      </a:gs>
                    </a:gsLst>
                    <a:lin ang="54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" name=""/>
                <p:cNvSpPr/>
                <p:nvPr/>
              </p:nvSpPr>
              <p:spPr>
                <a:xfrm>
                  <a:off x="2978280" y="4029120"/>
                  <a:ext cx="3187440" cy="56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0c900"/>
                    </a:gs>
                    <a:gs pos="100000">
                      <a:srgbClr val="4ca000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2978280" y="4606920"/>
                <a:ext cx="3187440" cy="561960"/>
              </a:xfrm>
              <a:prstGeom prst="rect">
                <a:avLst/>
              </a:prstGeom>
              <a:gradFill rotWithShape="0">
                <a:gsLst>
                  <a:gs pos="0">
                    <a:srgbClr val="60c900"/>
                  </a:gs>
                  <a:gs pos="100000">
                    <a:srgbClr val="4ca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978280" y="5181480"/>
              <a:ext cx="3187440" cy="565200"/>
            </a:xfrm>
            <a:prstGeom prst="rect">
              <a:avLst/>
            </a:prstGeom>
            <a:gradFill rotWithShape="0">
              <a:gsLst>
                <a:gs pos="0">
                  <a:srgbClr val="60c900"/>
                </a:gs>
                <a:gs pos="100000">
                  <a:srgbClr val="4ca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738240" y="17384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8440" y="2347920"/>
            <a:ext cx="189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40200" y="2973240"/>
            <a:ext cx="126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28960" y="34304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23280" y="4100400"/>
            <a:ext cx="12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37960" y="4633920"/>
            <a:ext cx="146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Data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15000" y="5243400"/>
            <a:ext cx="131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16080" y="2006640"/>
            <a:ext cx="3111840" cy="3625920"/>
            <a:chOff x="3016080" y="2006640"/>
            <a:chExt cx="3111840" cy="3625920"/>
          </a:xfrm>
        </p:grpSpPr>
        <p:grpSp>
          <p:nvGrpSpPr>
            <p:cNvPr id="94" name=""/>
            <p:cNvGrpSpPr/>
            <p:nvPr/>
          </p:nvGrpSpPr>
          <p:grpSpPr>
            <a:xfrm>
              <a:off x="3016080" y="2006640"/>
              <a:ext cx="3111840" cy="2716200"/>
              <a:chOff x="3016080" y="2006640"/>
              <a:chExt cx="3111840" cy="27162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016080" y="2006640"/>
                <a:ext cx="3111840" cy="1806480"/>
                <a:chOff x="3016080" y="2006640"/>
                <a:chExt cx="3111840" cy="18064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016080" y="291636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016080" y="200664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3016080" y="3825720"/>
                <a:ext cx="3111840" cy="89712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016080" y="4735440"/>
              <a:ext cx="3111840" cy="89712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314880" y="2195640"/>
            <a:ext cx="251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8960" y="2973240"/>
            <a:ext cx="148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40960" y="4024440"/>
            <a:ext cx="206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0120" y="4786200"/>
            <a:ext cx="2365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lication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670120"/>
            <a:ext cx="7772400" cy="271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likasi yang berinteraksi langsung dengan “us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dikirimkan dengan format “tertentu” ke Transport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oh : telnet, ftp, sm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por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pengiriman ke “host”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a protokol terpenting di layer ini adala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, connection 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DP, connection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7T17:00:26Z</dcterms:created>
  <dc:creator>KIP</dc:creator>
  <dc:description/>
  <dc:language>en-US</dc:language>
  <cp:lastModifiedBy>Onno W. Purbo</cp:lastModifiedBy>
  <cp:lastPrinted>1995-11-19T17:35:30Z</cp:lastPrinted>
  <dcterms:modified xsi:type="dcterms:W3CDTF">1999-04-19T03:08:30Z</dcterms:modified>
  <cp:revision>74</cp:revision>
  <dc:subject/>
  <dc:title>Pendahuluan</dc:title>
</cp:coreProperties>
</file>