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CCF-B01E-438E-BE52-449B3C04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5BA-6C85-4542-B70F-3858EF87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263-6152-4557-A879-4651A71C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381-A06A-4642-9EEF-4D5AB93D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0AA7-6FF0-495B-9616-AEA521F0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6A20-C5DD-4FF8-95F4-FD4D91EF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BE56-25AC-4745-95E2-5B54DF28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1594-58E0-45D0-A5C1-D2709186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5769-C57B-4B7C-8A92-40A3B087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BBD8-A196-493C-B468-31A19B26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4DAB-1DFD-4495-A473-3ABD227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509-6B2D-46A5-8734-AB444B33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6E1C-0C3F-4C0F-A4BD-724AD338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9EAE-F4CD-4F0D-BE55-A07ACE7D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3D6E-2A46-4416-8AC8-251B9C18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C634-8614-4D90-B3D7-526C5EDF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76AF-B523-4A5D-B2AA-1EA56332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3FC-EE42-4A19-99FE-A6F25222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B07-FB3E-4C7B-8608-AF9E2713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44E-E0B0-4936-974E-A9B6257D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B17-0E54-45B1-9EB5-F835D5E5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D32-81D5-4533-AFFD-A82BD251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41A-48A8-461D-850A-5D8352C4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8B0-E193-45AD-96E0-1165D598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2F45-81B9-4128-8127-00BEE2612B1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2960-A3E9-48AE-A821-748DDC34A33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mailto:ismail@itb.ac.i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groups.com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igital.lib.itb.ac.id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idln-announcement-subscribe@idln.itb.ac.id" TargetMode="External"/><Relationship Id="rId3" Type="http://schemas.openxmlformats.org/officeDocument/2006/relationships/hyperlink" Target="mailto:idln-announcement-subscribe@idln.itb.ac.id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hyperlink" Target="http://netmon.itb.ac.id/~ismai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decisionmaker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Untuk 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mail Fahm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@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owledge Management Research Group IT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ma Dinamika - Sheraton, 18 Oktober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kmrg-logo-web01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868320" cy="101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Ms Outl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mpilan dep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7467480" cy="531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3429000"/>
            <a:ext cx="1219320" cy="2743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590920"/>
            <a:ext cx="5333760" cy="9144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962520"/>
            <a:ext cx="5333760" cy="23619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819520"/>
            <a:ext cx="76212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2286000"/>
            <a:ext cx="14821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lend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80" y="41148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52600" y="2133720"/>
            <a:ext cx="2140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ader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800" y="3581280"/>
            <a:ext cx="13176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si sur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600200"/>
            <a:ext cx="762120" cy="304920"/>
          </a:xfrm>
          <a:prstGeom prst="ellipse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600200"/>
            <a:ext cx="1752480" cy="228600"/>
          </a:xfrm>
          <a:prstGeom prst="rect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5120" y="1523880"/>
            <a:ext cx="871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a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7080" y="1066680"/>
            <a:ext cx="22428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i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120" y="1905120"/>
            <a:ext cx="21240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ules Wiz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8AB-826B-4496-9C23-B784F101B8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ngatur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rat-surat masuk dikelompokkan berdasarkan topik/pengirim/gro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es Wiz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7080" y="2895480"/>
            <a:ext cx="1828800" cy="1600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800600"/>
            <a:ext cx="28954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1640" y="3429000"/>
            <a:ext cx="11102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ol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5029200"/>
            <a:ext cx="1168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tu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672-806D-4524-97AF-B662CA7F39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oter, identitas pengirim, organisasi, alamat kontak 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4757" t="58197" r="0" b="0"/>
          <a:stretch/>
        </p:blipFill>
        <p:spPr>
          <a:xfrm>
            <a:off x="2895480" y="3733920"/>
            <a:ext cx="5905800" cy="2333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4800600"/>
            <a:ext cx="5410080" cy="8380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0248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1A0-3BCF-4A8A-B344-A0BC6027C0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atur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179880" cy="3352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2819520" cy="278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405792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18636000">
            <a:off x="2743200" y="3079800"/>
            <a:ext cx="2362320" cy="304560"/>
          </a:xfrm>
          <a:prstGeom prst="rightArrow">
            <a:avLst>
              <a:gd name="adj1" fmla="val 50000"/>
              <a:gd name="adj2" fmla="val 193913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9810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C2A-C11A-44E1-BB6B-7D4A396A0B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rim File (Attachmen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less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5600880" cy="394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29200" y="2971800"/>
            <a:ext cx="380880" cy="380880"/>
          </a:xfrm>
          <a:prstGeom prst="ellipse">
            <a:avLst/>
          </a:prstGeom>
          <a:noFill/>
          <a:ln cap="sq"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5257800" cy="76176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8440" y="4876920"/>
            <a:ext cx="1544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2720" y="2438280"/>
            <a:ext cx="155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Inser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638680"/>
            <a:ext cx="838080" cy="8384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16360" y="5867280"/>
            <a:ext cx="34099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ile yang akan dik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3C5-F7D4-448A-881F-15AB15D2EA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san Err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0" y="1525680"/>
            <a:ext cx="5301360" cy="277092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From: Mail Delivery Subsyste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Date: Sat, 25 May 91 16:45:14 -0400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To: mg@gracie.com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Cc: Postmaster@cs.widener.edu Subject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Returned mail: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----- Transcript of session follows -----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While talking to cs.widener.edu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gt;&gt;&gt; RCPT To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&lt;&lt;&lt; 550 ... User unknow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Courier New"/>
              </a:rPr>
              <a:t>550 lsimpson... User unknow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352680"/>
            <a:ext cx="236232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6160" y="4267080"/>
            <a:ext cx="562896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esan error dapat diketahui dar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Email yang dikembalikan ke pengir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917-A9EB-4E3A-BD22-84F90D6F11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alend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467840" cy="531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2895480"/>
            <a:ext cx="685800" cy="228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53320" y="1219320"/>
            <a:ext cx="25473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ave sbg HT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E04-0813-40E7-BD4D-CB988DEA63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ling list: sebuah alamat email yang mendistribusikan setiap pesan ke seluruh anggotany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buat mailing list sendiri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egroups.c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72D-2B1D-4966-962F-DE26F5F45A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ing List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sal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Courier New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mendaftar sebagai anggo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 tertentu misa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subscrib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nsubscrib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keluar dari keanggota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asanya ditambah sufix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-unsubscrib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oh kirim email kosong ke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kmrg-unsubscribe@kmrg.lib.itb.ac.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519-E1B6-4161-AEB1-01F3C6F9C2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: etika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iquette semakin diperlukan ketik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irim email ke distribution list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net, at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oh netiquette yang buruk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C68-9CD7-46FE-9326-98AFFAB3F3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Public Re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nga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gaimana sampai ke s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295-74ED-4F06-A005-21B715D6AF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iquett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irim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unsolicit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email di Interne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a perusahaan yang khusus mengumpulkan alamat email untuk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dispam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ang spamming misal ingin beriklan, promosi produk, dll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lammi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maki seseorang di forum umum (mailing lis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amming biasanya ditujukan pada ORANG (subjektif) bukan pada INFORMASI (objektif) yang sedang dibah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F14-93B8-4D65-A10A-085F6D1200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sl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719520" y="1295280"/>
            <a:ext cx="5157720" cy="533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67760" y="1828800"/>
            <a:ext cx="2667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kirim hanya 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scrib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gus untuk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yebarkan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si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baru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7760" y="6019920"/>
            <a:ext cx="21834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sis Te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E4F-7F19-41F4-96AC-ED999EE4F9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6039000" cy="4695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43600" y="2590920"/>
            <a:ext cx="12952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572000"/>
            <a:ext cx="1600200" cy="9907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2590920"/>
            <a:ext cx="45720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74640" y="2133720"/>
            <a:ext cx="198828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Order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2760" y="2057400"/>
            <a:ext cx="161172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Help de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03200" y="4038480"/>
            <a:ext cx="1742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962520"/>
            <a:ext cx="2210040" cy="13716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4680" y="342900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02E-6AE6-4929-824F-BB087807ED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elola arsip-arsip secara digit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untunga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mat temp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an cepat ditemu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dah diorganisasik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pat diakses secara on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ngat membantu kinerja organis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tuk berbagai format arsi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mat arsi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ll teks, source co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e, gamb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ltimedia (audio, vide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9A9-8D2A-492B-82EA-452D00B332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oh: </a:t>
            </a:r>
            <a:r>
              <a:rPr b="0" lang="en-US" sz="4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digital.lib.itb.ac.i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6105240" cy="5165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43200" y="3809880"/>
            <a:ext cx="3733920" cy="10670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952880"/>
            <a:ext cx="1905120" cy="152424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3352680"/>
            <a:ext cx="373320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Berbagai tipe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1480" y="5334120"/>
            <a:ext cx="9885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5FD-ED87-40C2-BF29-408E04557A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dahnya akses arsip dig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5440" y="1371600"/>
            <a:ext cx="4973760" cy="5367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6766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0" t="27931" r="29011" b="7700"/>
          <a:stretch/>
        </p:blipFill>
        <p:spPr>
          <a:xfrm>
            <a:off x="228600" y="2743200"/>
            <a:ext cx="3048120" cy="175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657600"/>
            <a:ext cx="2286000" cy="3049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286000"/>
            <a:ext cx="3124080" cy="38088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3124080"/>
            <a:ext cx="17337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Judul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31480" y="1752480"/>
            <a:ext cx="220464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Kategori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6095880"/>
            <a:ext cx="2133360" cy="45720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11600" y="5334120"/>
            <a:ext cx="2135880" cy="9471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Download/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play file ars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92680" y="4191120"/>
            <a:ext cx="2817360" cy="13737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Real Player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utk mendengarkan</a:t>
            </a:r>
            <a:br>
              <a:rPr sz="2800"/>
            </a:b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arsip multim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rcRect l="0" t="44018" r="28947" b="0"/>
          <a:stretch/>
        </p:blipFill>
        <p:spPr>
          <a:xfrm>
            <a:off x="228600" y="1676520"/>
            <a:ext cx="2971800" cy="102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600200"/>
            <a:ext cx="2590560" cy="533520"/>
          </a:xfrm>
          <a:prstGeom prst="rect">
            <a:avLst/>
          </a:prstGeom>
          <a:noFill/>
          <a:ln cap="sq"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6360" y="1219320"/>
            <a:ext cx="1146960" cy="5205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2362320"/>
            <a:ext cx="0" cy="5331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438280" y="3048120"/>
            <a:ext cx="1752840" cy="761760"/>
          </a:xfrm>
          <a:prstGeom prst="line">
            <a:avLst/>
          </a:prstGeom>
          <a:ln cap="sq" w="38160">
            <a:solidFill>
              <a:srgbClr val="ff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8C5-386C-4D98-BFC4-B130408D4B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aringan Digital Library Nasio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itusi pendidikan dan ri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ling berbagi informasi ilmu pengetahuan yang dimilik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siatif KMRG ITB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onesiaDLN, Indonesian Digital Library Networ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site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scribe mailing list: </a:t>
            </a:r>
            <a:br>
              <a:rPr sz="32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idln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-announcement-subscribe@idln.itb.ac.i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58A-2FE1-477A-B517-BE0E4D5404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kenario IndonesiaDL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147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76520" y="1447920"/>
          <a:ext cx="670536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7053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2CB-41C5-4F86-94AF-BC3B76CFB6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ncana Implementasi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766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1447920"/>
          <a:ext cx="708660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08660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48F-3F65-4DAD-9BA4-A2D4F7966A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imakasi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MRG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ismail@itb.ac.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: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netmon.itb.ac.id/~isma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/Fax: 022-2500089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pustakaan Pusat IT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l. Ganesha 10 Bandung 4013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472-7119-410F-B786-56C1A3E095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Public Re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ngap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lombang ketiga: Informas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tumbuh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epat, Efektif, Efisi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luang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e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ll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ntanga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ktretaris, staff, boss mau tidak mau harus dapat memanfaatkan 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595-C8C5-4308-8704-CF46BF2EC5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Comme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Tai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is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Ban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9C6-8BEC-452B-9520-54091F0627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ronic Commerce (EC): Jual beli barang/jasa di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 dilakukan melalui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tailing (virtual storefronts, virtual mall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mazon.com: buk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DNow: C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liesOnline: office supply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rket Research (misal data demigrafis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lling, survey via web, dl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I, Electronic Data Interchange, pertukaran data bisnis secara elektro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ersambung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8FE-058F-4936-AFEC-ADB88FB2A6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Commerce …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, Fax, Internet Telephony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solicited ads (promosi lewat email spam)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mail newsletter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gn-up to receive email (ttg produk yang diminati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-to-B (Business-to-Business)  jual bel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Jual beli produk antar perusahaan melalui Intern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4 jam/hari showc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 reach a right people in a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of Business Transactio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uthent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gistrasi akses dan log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kripsi (penyandian dat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vac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759-F2A5-407D-9F75-CC03AE4EC4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-Busi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Bisnis, Bisnis di Interne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dak hanya untuk jual be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pi juga pemberian layanan, kolaborasi, dan joint research dengan partner bisn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tama kali digunakan oleh IBM (Oktober 97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ini banyak perusahaan berfikir bisnis dengan budaya dan kapabilitas baru menggunakan Intern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oh sukses: Amazon.com, IBM, H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jalah ttg E-bisnis: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decisionmaker.co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65E-E5F6-40DD-8182-D6E8646B7F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gaimana bisa ke san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 dasar bagi Public Rela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c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s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1E6-C98D-4538-A9B5-904F297C36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ail tool paling ampuh untuk  komunikasi di Inter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pat dan mudah memberi response, tidak perlu khawatir bagaimana sampai ke tuju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-2 Emai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 Outloo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scape Communica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gasus 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untuk 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3A1-9ADB-4DFE-B357-CEA5E568D1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01:18:43Z</dcterms:created>
  <dc:creator>Ismail Fahmi</dc:creator>
  <dc:description/>
  <dc:language>en-US</dc:language>
  <cp:lastModifiedBy>Ismail Fahmi</cp:lastModifiedBy>
  <dcterms:modified xsi:type="dcterms:W3CDTF">2000-10-16T09:29:38Z</dcterms:modified>
  <cp:revision>35</cp:revision>
  <dc:subject/>
  <dc:title>Internet Untuk Sekretaris</dc:title>
</cp:coreProperties>
</file>