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0AEA-BEA6-4EE7-BB79-E4E6A862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143D-1C59-4717-BDAB-BCA53E45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AE80-0BE9-4EA8-9039-E1545D72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C29A-1CB0-4A2B-9C93-60D62403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2BDC-8AE1-49DE-BD74-293B240F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2CA2-33A9-4A5C-81D8-826F3957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BC65-696C-49C5-92FD-E958ECF9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D4B4-9E05-45DF-A271-DF88C1CB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B434-A878-4A21-AB02-EC366B87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6133-F172-434D-B648-0CE94181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281C-1549-494B-9EE2-CE775E83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D025-2ED4-420C-8724-01F3374B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3A06-973C-4EFC-BF43-432E3D3E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1A13-0B9B-4148-870F-15D63698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707E-67EC-4BA8-B4B7-F16526F4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96F0-12C6-495E-BC0C-CC4A9B86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B488-D1C3-4EB5-9E57-1BBFA045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2831-452C-442C-885D-4B3FB58B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EE0F-DA28-4E12-B16A-AD523813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5FA1-6AE7-4BC7-B1BD-C7474A1A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9631-208E-4899-B9BA-8C8BBE1A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3EFF-C296-46D4-9913-1903F73E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C151-41C0-4276-BD98-C04FBF36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9701-1FD5-4EE2-9DD5-01FD9E69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99B6-9B3D-44F3-AEA5-C96F97334B7D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E2FE-5547-40BA-95F4-1C0001AF39B8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ir.org/diglib/about/strategic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1 Bulan IndonesiaDLN dan Tantangan Di Depan It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smail Fahmi &lt;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kjen IndonesiaDLN (s/d 2002)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tua KMRG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11 April 2002, Savoy Homan, Bandung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ktifita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a 4 aspek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ociet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mengelola forum IndonesiaDLN (lewat milis dan pertemuan tahunan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olic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proaktif memberi masukan kepada pimpinan institusi-institusi untuk berbagi pengetahuan (belum terlalu diaktifkan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rategi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standard metadata dan protokol, strategic business unit model, service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echn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tools, arsitektur, network, hub server, instalasi, training, operas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mponen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rtn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simpul/node dari jaring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penggu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lian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institusi kerjas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kretaria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execu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tandard &amp; Too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metadata, protokol,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ub Serve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the storages of knowle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ilita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kretariat; numpang bareng KMRG di Perpustakaan Pusat ITB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r Hub; numpang bareng server KMR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neksi Internet, 2 mbps numpang bareng AI3 IT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nfigurasi sebuah LAN D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1478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gdl-lan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9436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sitektur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2971800"/>
            <a:ext cx="1828800" cy="5335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42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80880" y="4267080"/>
            <a:ext cx="1523880" cy="1143000"/>
            <a:chOff x="380880" y="4267080"/>
            <a:chExt cx="1523880" cy="1143000"/>
          </a:xfrm>
        </p:grpSpPr>
        <p:sp>
          <p:nvSpPr>
            <p:cNvPr id="145" name=""/>
            <p:cNvSpPr/>
            <p:nvPr/>
          </p:nvSpPr>
          <p:spPr>
            <a:xfrm>
              <a:off x="380880" y="4267080"/>
              <a:ext cx="152388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uman Rights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880" y="5029200"/>
              <a:ext cx="15238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48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51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54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175248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th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tfo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362320"/>
            <a:ext cx="762120" cy="12189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057400" y="1828800"/>
            <a:ext cx="1904760" cy="914040"/>
            <a:chOff x="2057400" y="1828800"/>
            <a:chExt cx="1904760" cy="914040"/>
          </a:xfrm>
        </p:grpSpPr>
        <p:sp>
          <p:nvSpPr>
            <p:cNvPr id="164" name=""/>
            <p:cNvSpPr/>
            <p:nvPr/>
          </p:nvSpPr>
          <p:spPr>
            <a:xfrm>
              <a:off x="2057400" y="1828800"/>
              <a:ext cx="1904760" cy="609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stance Learning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57400" y="2438280"/>
              <a:ext cx="190476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590920" y="2743200"/>
            <a:ext cx="990360" cy="609480"/>
          </a:xfrm>
          <a:custGeom>
            <a:avLst/>
            <a:gdLst/>
            <a:ahLst/>
            <a:rect l="l" t="t" r="r" b="b"/>
            <a:pathLst>
              <a:path w="624" h="384">
                <a:moveTo>
                  <a:pt x="0" y="0"/>
                </a:moveTo>
                <a:lnTo>
                  <a:pt x="0" y="384"/>
                </a:lnTo>
                <a:lnTo>
                  <a:pt x="624" y="384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5638680"/>
            <a:ext cx="137160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A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3886200"/>
            <a:ext cx="761760" cy="19810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yarat Menjadi Partner/No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emiliki sumber pengetahua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n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ersedia berbagi pengetahua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agi kemajuan bangsa Indonesia.”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ngkah Menjadi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sikan: knowledge source, type, user, dan servic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apkan staf dan mekanisme pengelolaan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server digital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strasikan server ke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kronisasi data (share and harve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service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8960" y="2590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k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uni 2001 – April 2002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Hub Serv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umlah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6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rne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7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de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ABBN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A = Kode wilayah (menurut Indomar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sal: JB = Jawa Bar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B = Tipe perpustakaan/institu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T = Perguruan Tingg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K = Perpustakaan Khus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N = Warn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 = Pers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ME = Singkatan nama perpustakaan/institu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oh: JBPTITBPP (Perpustakaan Pusat ITB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FOR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ktober 2000: Forum dibentu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ni 2001: Jaringan DL diluncurk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ril 2002: Pertemuan Tahunan Keti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got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divid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yang tertarik pada PENGEMBANGAN DL di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stitu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yang ingin turut BERBAGI PENGETAHUAN bagi bangsa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/Nodes (Institusi)</a:t>
            </a:r>
            <a:br>
              <a:rPr sz="4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 6 April 200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1793880"/>
          <a:ext cx="9144000" cy="50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93880"/>
                    <a:ext cx="914400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ndisi Koneksi Intern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l-up / tempo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ic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ipe Cont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04920" y="2133720"/>
          <a:ext cx="8458200" cy="343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845820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488200" y="5715000"/>
            <a:ext cx="32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= 4023 meta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mat Fi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4920" y="1447920"/>
          <a:ext cx="8610480" cy="52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86104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 Besar Kontributor Metadata &amp; F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1371600"/>
          <a:ext cx="70102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0102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are Vs Harve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mlah Partn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metadat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3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fi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3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vest/downlo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4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akti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2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 / Us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09480" y="1600200"/>
          <a:ext cx="609624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609624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151760" y="1563840"/>
            <a:ext cx="124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di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il bi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bi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gara Asal Memb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371600" y="1981080"/>
          <a:ext cx="406728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40672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6159960" y="202104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 juga 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ng dari 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ofile Memb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523880" y="1905120"/>
          <a:ext cx="40179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40179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6160320" y="1639800"/>
            <a:ext cx="216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1,5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hasiswa S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si kedu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i Priv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ny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k Akses GDL Hu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usage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010640" cy="35053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54200" y="5907240"/>
            <a:ext cx="73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bagian besar berupa sinkronisasi data dari Part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523880" y="3124080"/>
          <a:ext cx="6553440" cy="27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553440" cy="27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3716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38680" y="2743200"/>
            <a:ext cx="2209680" cy="1447560"/>
            <a:chOff x="5638680" y="2743200"/>
            <a:chExt cx="2209680" cy="1447560"/>
          </a:xfrm>
        </p:grpSpPr>
        <p:sp>
          <p:nvSpPr>
            <p:cNvPr id="110" name=""/>
            <p:cNvSpPr/>
            <p:nvPr/>
          </p:nvSpPr>
          <p:spPr>
            <a:xfrm>
              <a:off x="5638680" y="3264120"/>
              <a:ext cx="1493280" cy="92664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13640" y="2743200"/>
              <a:ext cx="1134720" cy="127404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77360" y="3322440"/>
              <a:ext cx="298440" cy="5760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143000" y="2590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cess to our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ecenderungan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tetap aktif mengelola DLnya dan melakukan sharin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tetap aktif mengelola DLnya tapi tidak aktif sharin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hanya aktif harvest/download metadat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hanya terdaftar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alis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cenderungan tsb mungkin disebabk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 adalah sesuatu yang baru dan ingin dicob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kungan pimpinan institusi untuk mengelola DL kurang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ndard operasi sinkronisasi data belum ad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sialisasi aktif dan service bagi partner belum didefinisika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lum adanya definisi pasar, kebutuhan user, dan standard service bersa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tangan Di Dep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8cs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5530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tanyaan untuk Meeting Ketiga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are our users and what are their need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services we will provid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bout standard, protocol, and tool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will lead the IndonesiaDLN nex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survive from the financial issu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8960" y="2819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tangan Terbes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asal dari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Tahoma"/>
              </a:rPr>
              <a:t>dalam diri kita sendir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O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ur knowledg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want to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UNLO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t, 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it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OCK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172200" y="4191120"/>
            <a:ext cx="1494000" cy="1523880"/>
            <a:chOff x="6172200" y="4191120"/>
            <a:chExt cx="1494000" cy="1523880"/>
          </a:xfrm>
        </p:grpSpPr>
        <p:sp>
          <p:nvSpPr>
            <p:cNvPr id="117" name=""/>
            <p:cNvSpPr/>
            <p:nvPr/>
          </p:nvSpPr>
          <p:spPr>
            <a:xfrm>
              <a:off x="6172200" y="4788000"/>
              <a:ext cx="1494000" cy="92700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00800" y="4191120"/>
              <a:ext cx="1135080" cy="127476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it is locke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rena KI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ita tidak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ita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perlu kita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orang lain ingin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cara memberi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ta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n seterusnya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to Unlock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lah tugas KITA di IndonesiaDL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TA haru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jadi TAHU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jadi SADAR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u BERBAGI, lal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it ! Tunggu apa lagi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pa yang perlu dike-TAHU-i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kayaan intelektual kit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apa membutuhkan ap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mmun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gaimana menyampaikanny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ulture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operation, commerce, capital, capacity, dan connectiv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hat: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http://idln.lib.itb.ac.id/Open.html?target= overview/delapan_kesenjangan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ngapa Digital Librar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upakan ‘storage of knowledge’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dah dan murah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ine, anywhere, anytim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 (Perpustakaan) sudah lama dikenal masyarak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 Digital Libra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Digital libraries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ganization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at provide th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sourc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including the specialize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af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o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lec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ructur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ffer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llectual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cces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erpre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tribut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serv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integrity of, an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sur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sistenc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ver time of collections of digital works so that they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adil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conomicall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vailable for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s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y a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ed communit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t of communiti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"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  <a:hlinkClick r:id="rId1"/>
              </a:rPr>
              <a:t>http://www.clir.org/diglib/about/strategic.ht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0T00:50:10Z</dcterms:created>
  <dc:creator>Ismail Fahmi</dc:creator>
  <dc:description/>
  <dc:language>en-US</dc:language>
  <cp:lastModifiedBy>Ismail Fahmi</cp:lastModifiedBy>
  <dcterms:modified xsi:type="dcterms:W3CDTF">2002-04-10T05:01:40Z</dcterms:modified>
  <cp:revision>14</cp:revision>
  <dc:subject/>
  <dc:title>11 Bulan IndonesiaDLN dan Tantangan Masa Depan</dc:title>
</cp:coreProperties>
</file>