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3862-8D38-4B20-A526-0F5373F1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50F-0BC5-4976-8D0D-221CA00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3240-B12B-4ECD-9784-326DEF78B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11F-CFC8-4F1B-B21B-7370C8F3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10B4A-B2D5-4F95-BF6A-A9DA48F30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FA44-824D-4A94-8253-4AD5A330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8E16-DB1F-44F2-83EC-07321D36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CEE6-F543-4B5B-A4F9-4AB1E221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0133-8CD9-486B-9D23-63444F8F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EEF5-36D2-4B73-9B89-0438A3CF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7D5A-1D5E-419B-8CDD-DC5759D7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B94-7312-4048-9DB2-DC718B65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03A1-0458-4384-8518-7567828D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968F-40C7-40CA-B421-6CA9F25F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C178-5CCF-4645-9917-FD043E14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220E-E18D-48BC-9FA4-CD77D60F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55CD-992E-4022-A5F2-C1935B6A4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213C-AF73-462A-A8F9-06D5F0E4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1452-35BE-446E-81EF-7437D15E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DAA-7F3E-438E-9B2B-11F9E588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168-E129-4992-A4FC-C6D8282A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419-F58F-4E4E-864E-820FA317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681-2A3C-4663-B790-30B7751E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BBB-1BBA-45E3-95DB-B3B6F540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3611-CA12-487E-998D-9041CA51326C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B0E2-CBF2-4CA7-84D8-8E94B66DA232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dln.itb.ac.id/" TargetMode="External"/><Relationship Id="rId2" Type="http://schemas.openxmlformats.org/officeDocument/2006/relationships/hyperlink" Target="mailto:Area-technical@idln.itb.ac.id" TargetMode="External"/><Relationship Id="rId3" Type="http://schemas.openxmlformats.org/officeDocument/2006/relationships/hyperlink" Target="mailto:Area-scenario@idln.itb.ac.id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wmf"/><Relationship Id="rId9" Type="http://schemas.openxmlformats.org/officeDocument/2006/relationships/image" Target="../media/image7.wmf"/><Relationship Id="rId10" Type="http://schemas.openxmlformats.org/officeDocument/2006/relationships/image" Target="../media/image8.wmf"/><Relationship Id="rId11" Type="http://schemas.openxmlformats.org/officeDocument/2006/relationships/image" Target="../media/image9.wmf"/><Relationship Id="rId12" Type="http://schemas.openxmlformats.org/officeDocument/2006/relationships/image" Target="../media/image10.wmf"/><Relationship Id="rId13" Type="http://schemas.openxmlformats.org/officeDocument/2006/relationships/image" Target="../media/image11.wmf"/><Relationship Id="rId14" Type="http://schemas.openxmlformats.org/officeDocument/2006/relationships/image" Target="../media/image12.wmf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.wmf"/><Relationship Id="rId29" Type="http://schemas.openxmlformats.org/officeDocument/2006/relationships/image" Target="../media/image16.wmf"/><Relationship Id="rId30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image" Target="../media/image1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Indonesian Digital Library 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ndonesiaDLN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Juli 2001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Kap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canang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Oktober 20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luncurkan pada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uni 20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isiatif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Inisiative bottom-up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ari grass root (awalnya dari universitas, perpustakaan, dan lembaga riset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tuk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mengelola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berbag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lmu pengetahuan bangsa Indonesi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alui sebuah jaringan digital library yang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distrib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tersent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um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 yang membah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tandard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pertukaran informasi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kenari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 digital library di Indonesi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anggota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jaring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osialis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rogram jaringan digital libra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temuan partner/konsorsium setiap tah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, diman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kretariat di KMRG, Perpustakaan Pusat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pimpin seorang sekjen (Ismail Fahmi, 2000 – sekara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ite: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ling li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Area-technical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Area-scenario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a-society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dln-announcement@idln.itb.ac.i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rgabung mailing list, kirim email kosong ke: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[nama-mailing-list]-subscribe@idln.itb.ac.i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-2 d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 adal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network of digital library networ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di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twork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Network, menggunakan software GDL (Ganesha Digital Library), dibuat KMRG ITB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U-VL, menggunakan software New Spektra, dibuat oleh UK Petra Surabay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lain… (future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ub http://gdlhub.indonesiaDLN.or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8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60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5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7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8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80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94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6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8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201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5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9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2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1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ringan yang sudah “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fully operati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” =  GDL-Networ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Spektra (NS) dalam pengembang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jicoba interoperabilitas metada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GDL (bi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UB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NS (one directional OK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= institusi, individu yang memiliki server digital library (GDL) dan bergabung ke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saat ini, terhubung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pustakaan Pus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t Biologi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sca Sarjana ITB (in progr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versitas Syah Kuala Banda Ace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 GDL-Network [2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3657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njutan, terhubung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MA IP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Muhammadiyah Mala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dan Litbang Kesehatan Depkes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ina Nusantar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Atmajaya J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Sam Ratulangi Manad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Haluoleo Kendar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AIN Yogyakar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Cendrawasih Irian Jay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SM Dana Mitra Lingkung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1981080"/>
            <a:ext cx="3581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install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mbaga Pendidikan Al-Azhar Jk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rs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al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rdaftar, belum terhubu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niversitas Bhayangkara Surabay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er = pemakai, pengguna, anggota yang mendaftar ke server-server GD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 terdaftar di GDL Hub sekitar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300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rang, sebagian besar dari Indonesia, dan sebagian dari Luar Nege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capan 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Fund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RC, International Development Research Centre (Canada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LTI, Yayasan Litbang Telekomunikasi dan Informatik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upport in-kin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Pusat IT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3/ITB, Asian Internet Interconnection Initia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NRG, Computer Network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MRG, Knowledge Management Research Grou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272320" y="2844720"/>
            <a:ext cx="46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rsama-sama membangu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Knowledgebase 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bd06662_" descr=""/>
          <p:cNvPicPr/>
          <p:nvPr/>
        </p:nvPicPr>
        <p:blipFill>
          <a:blip r:embed="rId1"/>
          <a:stretch/>
        </p:blipFill>
        <p:spPr>
          <a:xfrm>
            <a:off x="2971800" y="2049480"/>
            <a:ext cx="3505320" cy="3102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17524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necting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581280" y="372960"/>
            <a:ext cx="167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ople’s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581280" y="906480"/>
            <a:ext cx="2514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nowledge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905120" y="1897200"/>
            <a:ext cx="5029200" cy="3504600"/>
            <a:chOff x="1905120" y="1897200"/>
            <a:chExt cx="5029200" cy="3504600"/>
          </a:xfrm>
        </p:grpSpPr>
        <p:sp>
          <p:nvSpPr>
            <p:cNvPr id="238" name=""/>
            <p:cNvSpPr/>
            <p:nvPr/>
          </p:nvSpPr>
          <p:spPr>
            <a:xfrm>
              <a:off x="1981080" y="2049480"/>
              <a:ext cx="2286000" cy="10666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1905120" y="3725640"/>
              <a:ext cx="1981080" cy="228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2209680" y="3954240"/>
              <a:ext cx="1828800" cy="14475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571640" y="4030200"/>
              <a:ext cx="304920" cy="12956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5409720" y="3877920"/>
              <a:ext cx="1219320" cy="12193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410080" y="3573360"/>
              <a:ext cx="15242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5257440" y="1897200"/>
              <a:ext cx="1523880" cy="121896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536760" y="525600"/>
            <a:ext cx="1669680" cy="1870920"/>
            <a:chOff x="536760" y="525600"/>
            <a:chExt cx="1669680" cy="1870920"/>
          </a:xfrm>
        </p:grpSpPr>
        <p:pic>
          <p:nvPicPr>
            <p:cNvPr id="246" name="pe02043_" descr=""/>
            <p:cNvPicPr/>
            <p:nvPr/>
          </p:nvPicPr>
          <p:blipFill>
            <a:blip r:embed="rId8"/>
            <a:stretch/>
          </p:blipFill>
          <p:spPr>
            <a:xfrm>
              <a:off x="853920" y="525600"/>
              <a:ext cx="9918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36760" y="193680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re/Schoo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60800" y="2278080"/>
            <a:ext cx="1383840" cy="1718640"/>
            <a:chOff x="460800" y="2278080"/>
            <a:chExt cx="1383840" cy="1718640"/>
          </a:xfrm>
        </p:grpSpPr>
        <p:pic>
          <p:nvPicPr>
            <p:cNvPr id="249" name="pe02716_" descr=""/>
            <p:cNvPicPr/>
            <p:nvPr/>
          </p:nvPicPr>
          <p:blipFill>
            <a:blip r:embed="rId9"/>
            <a:stretch/>
          </p:blipFill>
          <p:spPr>
            <a:xfrm>
              <a:off x="549360" y="2278080"/>
              <a:ext cx="1295280" cy="122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60800" y="35370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dic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90720" y="5438880"/>
            <a:ext cx="1295280" cy="1413720"/>
            <a:chOff x="990720" y="5438880"/>
            <a:chExt cx="1295280" cy="1413720"/>
          </a:xfrm>
        </p:grpSpPr>
        <p:pic>
          <p:nvPicPr>
            <p:cNvPr id="252" name="bd06529_" descr=""/>
            <p:cNvPicPr/>
            <p:nvPr/>
          </p:nvPicPr>
          <p:blipFill>
            <a:blip r:embed="rId10"/>
            <a:stretch/>
          </p:blipFill>
          <p:spPr>
            <a:xfrm>
              <a:off x="990720" y="5438880"/>
              <a:ext cx="12952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1357200" y="639288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por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040640" y="5362560"/>
            <a:ext cx="1383120" cy="1490040"/>
            <a:chOff x="4040640" y="5362560"/>
            <a:chExt cx="1383120" cy="1490040"/>
          </a:xfrm>
        </p:grpSpPr>
        <p:pic>
          <p:nvPicPr>
            <p:cNvPr id="255" name="pe01753_" descr=""/>
            <p:cNvPicPr/>
            <p:nvPr/>
          </p:nvPicPr>
          <p:blipFill>
            <a:blip r:embed="rId11"/>
            <a:stretch/>
          </p:blipFill>
          <p:spPr>
            <a:xfrm>
              <a:off x="4282920" y="5362560"/>
              <a:ext cx="87948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4040640" y="6392880"/>
              <a:ext cx="138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aw/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769440" y="4869000"/>
            <a:ext cx="1838880" cy="1642320"/>
            <a:chOff x="6769440" y="4869000"/>
            <a:chExt cx="1838880" cy="1642320"/>
          </a:xfrm>
        </p:grpSpPr>
        <p:pic>
          <p:nvPicPr>
            <p:cNvPr id="258" name="pe07677_" descr=""/>
            <p:cNvPicPr/>
            <p:nvPr/>
          </p:nvPicPr>
          <p:blipFill>
            <a:blip r:embed="rId12"/>
            <a:stretch/>
          </p:blipFill>
          <p:spPr>
            <a:xfrm>
              <a:off x="6781680" y="4869000"/>
              <a:ext cx="129240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6769440" y="6051600"/>
              <a:ext cx="18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Univ/Resrch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860160" y="1897200"/>
            <a:ext cx="2078280" cy="1374120"/>
            <a:chOff x="6860160" y="1897200"/>
            <a:chExt cx="2078280" cy="1374120"/>
          </a:xfrm>
        </p:grpSpPr>
        <p:pic>
          <p:nvPicPr>
            <p:cNvPr id="261" name="en00349_" descr=""/>
            <p:cNvPicPr/>
            <p:nvPr/>
          </p:nvPicPr>
          <p:blipFill>
            <a:blip r:embed="rId13"/>
            <a:stretch/>
          </p:blipFill>
          <p:spPr>
            <a:xfrm>
              <a:off x="7162920" y="1897200"/>
              <a:ext cx="160020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60160" y="2811600"/>
              <a:ext cx="20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Entertainm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095880" y="372960"/>
            <a:ext cx="1800000" cy="1602720"/>
            <a:chOff x="6095880" y="372960"/>
            <a:chExt cx="1800000" cy="1602720"/>
          </a:xfrm>
        </p:grpSpPr>
        <p:pic>
          <p:nvPicPr>
            <p:cNvPr id="264" name="pe01561_" descr=""/>
            <p:cNvPicPr/>
            <p:nvPr/>
          </p:nvPicPr>
          <p:blipFill>
            <a:blip r:embed="rId14"/>
            <a:stretch/>
          </p:blipFill>
          <p:spPr>
            <a:xfrm>
              <a:off x="6095880" y="372960"/>
              <a:ext cx="1758960" cy="116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480720" y="151596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usines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320600" y="3268800"/>
            <a:ext cx="1278000" cy="1490040"/>
            <a:chOff x="7320600" y="3268800"/>
            <a:chExt cx="1278000" cy="1490040"/>
          </a:xfrm>
        </p:grpSpPr>
        <p:pic>
          <p:nvPicPr>
            <p:cNvPr id="267" name="kyai" descr=""/>
            <p:cNvPicPr/>
            <p:nvPr/>
          </p:nvPicPr>
          <p:blipFill>
            <a:blip r:embed="rId15"/>
            <a:stretch/>
          </p:blipFill>
          <p:spPr>
            <a:xfrm>
              <a:off x="7331040" y="3268800"/>
              <a:ext cx="1090800" cy="112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7320600" y="429912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Religio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31840" y="3954600"/>
            <a:ext cx="1636200" cy="1526400"/>
            <a:chOff x="231840" y="3954600"/>
            <a:chExt cx="1636200" cy="1526400"/>
          </a:xfrm>
        </p:grpSpPr>
        <p:pic>
          <p:nvPicPr>
            <p:cNvPr id="270" name="bd05158_" descr=""/>
            <p:cNvPicPr/>
            <p:nvPr/>
          </p:nvPicPr>
          <p:blipFill>
            <a:blip r:embed="rId16"/>
            <a:stretch/>
          </p:blipFill>
          <p:spPr>
            <a:xfrm>
              <a:off x="380880" y="3954600"/>
              <a:ext cx="121932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31840" y="5021280"/>
              <a:ext cx="163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3194640" y="4038480"/>
            <a:ext cx="288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Nationa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Knowledgeb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306240" y="2884320"/>
            <a:ext cx="23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7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97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99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0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301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302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0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1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312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13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328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330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331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32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3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334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33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36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33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33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34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35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6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6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7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7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8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8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9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9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40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40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40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41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41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41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42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42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43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44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45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6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3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5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7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7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77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9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8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504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505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6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08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509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510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8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9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1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37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538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39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40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542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4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544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5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546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68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79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90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9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601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612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613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5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616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625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636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6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58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61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6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3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6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5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6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7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6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9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1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7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3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7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5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76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7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78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79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80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81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82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85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8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7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88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89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90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93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99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704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71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734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35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736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5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747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63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65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6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7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69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73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74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77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9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80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86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90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94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805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6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807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08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0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10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811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855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5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57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58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9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1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0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72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98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00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1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902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903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906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08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909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915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919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0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921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92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23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24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925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926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4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936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937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947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9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951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5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3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4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"/>
          <p:cNvSpPr/>
          <p:nvPr/>
        </p:nvSpPr>
        <p:spPr>
          <a:xfrm>
            <a:off x="1207440" y="2786040"/>
            <a:ext cx="645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gaimana 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Departeme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di IT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isa Bergabu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ternatif Bergabung Bagi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anfa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PP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ndi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rver GDL di Departe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anfaatkan Server GDL PP IT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untung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menyediakan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biaya instalasi dan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dak perlu SDM Administrator ser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pat dimulai dengan Cep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any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njuk staff departemen yang akan menjadi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EDIT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ak Perpustakaan Pusat ITB untuk mendapatkan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Training Editor GDL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(gratis). Koordinasi, registrasi, dan akses ke GDL akan dilakukan selama Train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ai upload abstrak dan full content dari departemen masing-mas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us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it wor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Bergab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1]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9" name=""/>
          <p:cNvSpPr/>
          <p:nvPr/>
        </p:nvSpPr>
        <p:spPr>
          <a:xfrm>
            <a:off x="1530720" y="1905120"/>
            <a:ext cx="38991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L = http://digilib.itb.ac.id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633680" y="2666880"/>
            <a:ext cx="288540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rtic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urse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istance Lear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Boo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ination Mat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pertise 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35480" y="2666880"/>
            <a:ext cx="2440440" cy="2228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Jour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cee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b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search Re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1-Final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2-Master The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3-PhD 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181480" y="4191120"/>
            <a:ext cx="243864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477120" y="5181480"/>
            <a:ext cx="182880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869" y="-14980"/>
                </a:moveTo>
                <a:lnTo>
                  <a:pt x="-900" y="2724"/>
                </a:lnTo>
              </a:path>
              <a:path w="21600" h="21600">
                <a:moveTo>
                  <a:pt x="-900" y="0"/>
                </a:moveTo>
                <a:lnTo>
                  <a:pt x="-900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lick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528200" y="541008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ot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2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520280" y="1952640"/>
            <a:ext cx="6999120" cy="3988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32240" y="2666880"/>
            <a:ext cx="2856600" cy="13136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tronom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i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ectrical Engine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600200" y="2971800"/>
            <a:ext cx="16765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733920" y="4191120"/>
            <a:ext cx="40384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441" y="-21297"/>
                </a:moveTo>
                <a:lnTo>
                  <a:pt x="-408" y="2724"/>
                </a:lnTo>
              </a:path>
              <a:path w="21600" h="21600">
                <a:moveTo>
                  <a:pt x="-408" y="0"/>
                </a:moveTo>
                <a:lnTo>
                  <a:pt x="-40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oh, Sub kategor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epartemen Biolog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582560" y="2666880"/>
            <a:ext cx="861840" cy="1923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2971800"/>
            <a:ext cx="83808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276720" y="4191120"/>
            <a:ext cx="4952880" cy="906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621" y="-21297"/>
                </a:moveTo>
                <a:lnTo>
                  <a:pt x="-332" y="2724"/>
                </a:lnTo>
              </a:path>
              <a:path w="21600" h="21600">
                <a:moveTo>
                  <a:pt x="-332" y="0"/>
                </a:moveTo>
                <a:lnTo>
                  <a:pt x="-332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oleksi Tesis Master Departemen Biologi tahun 199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1528560" y="5410080"/>
            <a:ext cx="34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 adalah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 Categ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mana Disimpan Koleksi Departemen? … [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524240" y="1978200"/>
            <a:ext cx="67460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RL = http://digilib.itb.ac.id/go.php?top=/S2-Master_Thes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ology/1998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rcRect l="1187" t="23862" r="3998" b="4576"/>
          <a:stretch/>
        </p:blipFill>
        <p:spPr>
          <a:xfrm>
            <a:off x="1523880" y="2743200"/>
            <a:ext cx="6096240" cy="34290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1523880" y="2743200"/>
            <a:ext cx="5867640" cy="144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257800" y="5334120"/>
            <a:ext cx="28954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6993" y="-53025"/>
                </a:moveTo>
                <a:lnTo>
                  <a:pt x="-568" y="5400"/>
                </a:lnTo>
              </a:path>
              <a:path w="21600" h="21600">
                <a:moveTo>
                  <a:pt x="-568" y="0"/>
                </a:moveTo>
                <a:lnTo>
                  <a:pt x="-568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Lihat 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2" name="" descr=""/>
          <p:cNvPicPr/>
          <p:nvPr/>
        </p:nvPicPr>
        <p:blipFill>
          <a:blip r:embed="rId1"/>
          <a:srcRect l="3707" t="11080" r="7269" b="4592"/>
          <a:stretch/>
        </p:blipFill>
        <p:spPr>
          <a:xfrm>
            <a:off x="2895480" y="457200"/>
            <a:ext cx="5715000" cy="594360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368280" y="573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 Abstr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048120" y="2743200"/>
            <a:ext cx="52578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228600" y="5029200"/>
            <a:ext cx="33526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773" y="-90975"/>
                </a:moveTo>
                <a:lnTo>
                  <a:pt x="22091" y="5400"/>
                </a:lnTo>
              </a:path>
              <a:path w="21600" h="21600">
                <a:moveTo>
                  <a:pt x="22091" y="0"/>
                </a:moveTo>
                <a:lnTo>
                  <a:pt x="22091" y="21600"/>
                </a:lnTo>
              </a:path>
            </a:pathLst>
          </a:custGeom>
          <a:solidFill>
            <a:srgbClr val="00cc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wnload full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sang server GDL sendiri di departeme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oftware GDL, download free di http://gdl.itb.ac.id/download, atau pesan CD-ROM ke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 form registrasi untuk Institusi, kirim ke KMR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r free, install sendir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butuh bantuan dan training, hubungi KMR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abstrak dan full content ke server lokal, dan share ke IndonesiaDLN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abstrak dari knowledgebase IndonesiaDLN, secara otomatis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rver GDL Departem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elah Registras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dapat Publisher ID, </a:t>
            </a: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JBPTITB**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iliki server sendiri dg alamat http://digilib.**.itb.ac.i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**=EL, BI, MS, et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r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iknya memiliki SDM Admin yang bisa mengelola server GDL Departemen untuk maintenanc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min perlu selalu koordinasi dengan KMRG ITB untuk maintenance dan troubleshootin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ahoma"/>
              </a:rPr>
              <a:t>GDL Headquarter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ink ke knowledgebase partner 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1" name=""/>
          <p:cNvSpPr/>
          <p:nvPr/>
        </p:nvSpPr>
        <p:spPr>
          <a:xfrm>
            <a:off x="675360" y="1716120"/>
            <a:ext cx="776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http://gdlhub.indonesiaDLN.org/go.php?top=/*Institutio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182880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gdlhub1" descr=""/>
          <p:cNvPicPr/>
          <p:nvPr/>
        </p:nvPicPr>
        <p:blipFill>
          <a:blip r:embed="rId1"/>
          <a:stretch/>
        </p:blipFill>
        <p:spPr>
          <a:xfrm>
            <a:off x="990720" y="2209680"/>
            <a:ext cx="685800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gaimana </a:t>
            </a:r>
            <a:r>
              <a:rPr b="0" lang="en-US" sz="4000" spc="-1" strike="noStrike" u="sng">
                <a:solidFill>
                  <a:srgbClr val="ffcc00"/>
                </a:solidFill>
                <a:uFillTx/>
                <a:latin typeface="Tahoma"/>
              </a:rPr>
              <a:t>Mahasiswa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Bisa Sharing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angkah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strasi online &amp; free menjadi member d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DLHUB, http://gdlhub.indonesiaDLN.or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au ke server digital library lokal (milik institusi/departeme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&amp; share abstrak dan full content dari paper, laporan penelitian, dll And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sonal Directory And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00"/>
                </a:solidFill>
                <a:uFillTx/>
                <a:latin typeface="Tahoma"/>
              </a:rPr>
              <a:t>http://[server]/go.php?top=/Member/email@anda.com/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emudi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er otomatis akan menyebarkan ke IndonesiaDLN 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ntribusi Anda segera bisa di-AKSES secara lu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2355480" y="3063960"/>
            <a:ext cx="4493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cana IndonesiaD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data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vs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igital Lib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Katalog Onli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biasanya berhubungan deng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ibrary Autom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xt to do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Digital Heritage Networ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tuk membantu otonomi daerah dan pemanfaatan budaya bang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si dengan jaringan informasi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Small and Medium Enterpris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SM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Memanfaatk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knowledgebase aset ilmu pengetahuan dan budaya bangsa di IndonesiaDLN dengan berbagai media kreatif (CD-ROM, VCD, Multimedia, e-learning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Collaboration: NDLTD, ADT, APAN,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581280" y="2743200"/>
            <a:ext cx="1828800" cy="7621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013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533520" y="4267080"/>
            <a:ext cx="1371600" cy="1143000"/>
            <a:chOff x="533520" y="4267080"/>
            <a:chExt cx="1371600" cy="1143000"/>
          </a:xfrm>
        </p:grpSpPr>
        <p:sp>
          <p:nvSpPr>
            <p:cNvPr id="1016" name=""/>
            <p:cNvSpPr/>
            <p:nvPr/>
          </p:nvSpPr>
          <p:spPr>
            <a:xfrm>
              <a:off x="533520" y="4267080"/>
              <a:ext cx="137160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R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3352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019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ME/Agri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022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025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715000" y="114300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kt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410080" y="1905120"/>
            <a:ext cx="762120" cy="1676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Network di dun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DLTD, Networked Digital Library of Theses and Dissertation, Virginia, member 80++ universitas di dunia, http://www.ndltd.org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T, Australian Digital Theses. Member 7 universitas besar di Australia, http://adt.caul.edu.au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onesiaDLN, di Indonesia, didesain khusus untuk negara berkembang, http://gdlhub.indonesiaDLN.or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RL Pent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web site; Mailing list; technical, scenario, society, announcement; standard,  http://idln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ntang GDL, registrasi, bergabung, patch, download, dll, http://gdlhub.indonesiaDLN.org/faqgdl.ph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GDL source code for free, http://gdl.itb.ac.id/download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DL-HUB, http://gdlhub.indonesiaDLN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gital Library ITB, http://digi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tak KMRG: kmrg@kmrg.lib.itb.ac.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"/>
          <p:cNvSpPr/>
          <p:nvPr/>
        </p:nvSpPr>
        <p:spPr>
          <a:xfrm>
            <a:off x="2153160" y="2565360"/>
            <a:ext cx="454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Terima kasi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The Indonesian “mother” network, a network of networks – The IndonesiaDLN, Indonesian Digital Library Net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Maria Ng Lee Hoon, Senior Regional Program Officer IDRC, Singapor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14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1355760" y="1809720"/>
            <a:ext cx="618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epas kunci/borgol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KS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erhadap kekayaan Ilmu Pengetahuan bangsa Indones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ateg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Network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lalui sebuah jaringan digital library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tribu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tiap orang/institusi mengelola sendiri kekayaan intelektualn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Unifi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atu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Dissemin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seluruh koleksi disebark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Standardiz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menggunakan standard metadata inter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Map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ber informasi yang akan dikelola dan disebarkan: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bstrak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ful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ri </a:t>
            </a:r>
            <a:r>
              <a:rPr b="1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LOCAL 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liput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 Peneliti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gas Akhir, Tesis,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rtikel, paper, proceeding, 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, e-learning material, course mater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, Heritage, Multimedia, direktori expert, 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iversit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neliti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mbaga Pemerintah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sn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198108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group, TK, SD, SMP, 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santren, Masjid, Lembaga Keagama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ganisasi Masyarak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3:50:29Z</dcterms:created>
  <dc:creator>Ismail Fahmi</dc:creator>
  <dc:description/>
  <dc:language>en-US</dc:language>
  <cp:lastModifiedBy>Ismail Fahmi</cp:lastModifiedBy>
  <dcterms:modified xsi:type="dcterms:W3CDTF">2001-07-17T00:58:25Z</dcterms:modified>
  <cp:revision>75</cp:revision>
  <dc:subject/>
  <dc:title>Digital Library Network dan  Riset Nasional</dc:title>
</cp:coreProperties>
</file>