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7D6-341D-4185-9FC3-75D59820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CD9-2A33-413C-9B82-8AFCE67E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F0ED-DF7C-4E53-9979-57055349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1528-DD1F-4C0C-AE73-45B38C02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90F8-2C51-4E5A-807A-C830DB93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0F2-C3EC-457B-B223-718A5D73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E9F-3E1A-4347-B86D-9E341B05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589-FDAC-4D82-B4E9-3739BD37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4BF-7FF6-4AFC-9037-DC204B39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C7A1-F9BA-4FEA-A834-4F6FC028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02C-A1E4-4581-9346-B21528AD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DE31-F53D-4C91-AFEF-BD2DD571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AB31-20E4-4EE2-823E-DBF6CD08F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Libr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menterian Lingkungan Hid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mail Fah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 Management Research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itut Teknologi Ban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b Server IndonesiaD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dlhub.indonesiadl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dl-klh" descr=""/>
          <p:cNvPicPr/>
          <p:nvPr/>
        </p:nvPicPr>
        <p:blipFill>
          <a:blip r:embed="rId1"/>
          <a:stretch/>
        </p:blipFill>
        <p:spPr>
          <a:xfrm>
            <a:off x="507960" y="668160"/>
            <a:ext cx="8126280" cy="5521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7560" y="1295280"/>
            <a:ext cx="2722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in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artikel dalam 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4:51:13Z</dcterms:created>
  <dc:creator>Ismail Fahmi</dc:creator>
  <dc:description/>
  <dc:language>en-US</dc:language>
  <cp:lastModifiedBy>Ismail Fahmi</cp:lastModifiedBy>
  <dcterms:modified xsi:type="dcterms:W3CDTF">2002-07-27T15:01:10Z</dcterms:modified>
  <cp:revision>2</cp:revision>
  <dc:subject/>
  <dc:title>Digital Library Kementerian Lingkungan Hidup</dc:title>
</cp:coreProperties>
</file>